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68A3-C5CB-43FB-B34B-1AA85868A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B06A-0E86-4659-8727-6D56B92D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D40F7-FDE4-4F42-B446-417C6AA5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6D0E3-5EC1-40A5-A1B9-237467D3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9ECC8-A96C-496D-B105-D04234DB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C8307-0C09-4040-9E2A-FD5BA40F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58187-98DA-4AF7-8801-B1F0F4D4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05C91-20CF-4D43-AD21-48985F7C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D92AA-DADC-4C4B-BB62-8118647E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01317-9050-4B84-A3A4-3FE33349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EB5B6-675E-40E0-9F8F-124F0F725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2BE5E-AD89-4B60-A435-8195FFF5C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3198-7B4E-4F1C-B95E-EA2307C6C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F74380-4E72-4BFB-802B-FF64361C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AD72E-9102-42B7-BFC3-6FF9354D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D7C1E0-41E4-4AD0-8487-3E60ED5C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66620-2C17-4668-A844-F5408735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F70ED1-709C-47C9-801D-38B98982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755A3-5BB8-4B1D-BBB5-97E8D78C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A2029-3F23-4A7A-B2CE-4F89BF72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104555-0C4F-4D7C-A128-5565C28B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55126-9582-4939-8E29-1B891958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2D772D-2780-4A27-AB12-BB17D59F1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AFA9-AB48-4BD6-A3F9-BC4C9EBDD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A3AF6A-9DF5-46B9-91F2-7F1C820B4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60799-A934-493A-BB84-18008C950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6FC7D-CC1F-4AD4-89FA-18D09DA5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85233-BB85-44F9-A022-1515E909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28C9F-6EE8-41EC-8F57-45854A71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45D3E-C0E8-48D2-9B28-9CB96507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A6710-B551-45FB-A364-C597AF66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AA5FE-DD1F-4D13-A1B1-EF368E03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EDA63-11D6-44E8-A919-8D79B597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F0C36-3754-41DE-95E3-AE18693E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E102-559B-4E4F-BF0F-A4965E248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3722E-27E8-43D0-B5BA-84259966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CEA87-5354-4BAE-AD30-AB6E04B5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06B6B-3AA8-456E-B6FF-2EA43F0D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9BE767-A3C4-409C-BB22-8F62D88FE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F6E291-A755-424F-B540-C0D758B3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2B64F4-4D12-4A37-91F0-D6194577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A77583-2DB9-4952-866A-13AC0CF9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774175-56DB-4A41-B835-9C7AA342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CEBF90-618F-44BB-B98E-B89ED5DC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66A57A-B22E-4168-ACA1-F4D3FA0D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500E-819B-466D-A3FF-915AD2FE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B0B02E-3C29-4908-A3E8-17511D68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893081-2FA0-4F64-9657-A2AF0064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201912-04BF-40E1-A2C5-DC1A2E6B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1618E2-3760-42EA-97FD-3F566AF0B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088A9-399B-4DAD-A345-1E7447D51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E7870F-9A7C-4CE8-AD17-571622485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FC469A-4CEF-4AA6-96BF-840934EE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593294-F6EA-4A23-9BAF-C0C3136E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047221-031C-4C92-BE22-F5FC96E5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0EF85A-063D-4655-A801-4B004A13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3E67-3ACA-435D-9091-6B452F8C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7FFE2A-4D82-4BFC-8518-CCBC9F8F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E350B9-ACD3-4B49-B291-3E7909B8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022999-EC7E-49B4-BF37-947A3D35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DE3601-2107-460E-8E5F-E4E7DFF2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3C7888-C6C4-46C1-A35A-31A0BB86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8776C2-EA6C-4655-9978-0BEDD6AE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49760E-1DE8-4772-A561-FDDF098D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4368C1-9477-457E-9BB5-C81AFF879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66065D-F927-4145-B5E6-62D45D4A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4D847B-75AD-4E71-B137-9C45457D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ED79-22BC-4392-9B10-9260C7AD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73CEE0-5C36-428C-B970-D8B315DF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F33161-4D64-4868-9361-D210A368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74C0FE-A710-473D-9454-092CE135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F6107A-4C05-4DF8-AC99-230163EA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791855-E978-4F65-AEDA-66C3E273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B5143E-021C-4243-9F20-1787729A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5EB62F-8380-4ED1-88B7-3A130199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CA12D3-27F8-4A80-B346-7E2D83A1C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428A9C-0E09-4DC5-8528-8337ABA8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0E1D1D-6224-4BAE-A195-333D8620C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D185-FD7A-4256-AEB1-59E5346D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E291E0-4150-438A-BF2F-B0CB2326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A2A01B-851E-46B4-9E43-7B169821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463496-CD9D-48CA-8DB6-AF6DAC63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3543BD-725C-4594-84CF-9F18A550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95306E-EDB7-4012-A2A1-CC5ADDF6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863FD7-95BF-4CA8-9454-BE7383CD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D139BD-CF0B-43D7-B2AA-BE362AEE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3C8A13-F644-45CE-B2F9-FA143954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0E9281-0318-4CE8-985C-7044B2D3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0CB9AD-E811-4AAC-9350-7695ED2BA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BBBA-98FC-470A-A67B-1B9CD7A7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BC956A-5A45-4C9F-BB2F-9D50DC160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F2CF9A-2CAB-4A19-B3D3-9EDEE1171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C5EDBB-5222-4035-9689-27CADF3F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558924-634D-4E0D-A78F-DAC9E619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7964D2-18F6-469A-A4A3-26BECD04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025B83-ADA3-4E60-9FF5-9E74D17E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469EAC-DC41-45EC-A524-1CA71AB2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CB2764-3936-41C1-A6F3-E34CBCE7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4B1FFD-9C5F-4781-A2FE-C76B78F5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CA1AA3-125D-4A3D-93AF-F5874212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0127-A6DC-49BB-833E-45A6C1FF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5A2096-568E-40A8-B257-C47FE732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EFDAB2-E0E4-48C9-A3BC-4ABB14790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248B27-4C12-4D2F-8449-809E4132B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F56DD1-51CC-4F2C-93A9-D567B15A3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6C83F0-AD8B-497E-896D-FA13C293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887DBB-459D-4D41-AD8E-BA087788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44FFF0-31E3-42D3-A269-A63D6051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C985AA-2277-49E5-95E2-E861C72F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9BDE4A-174A-4FF8-9F8D-67C247A9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D57962-5DB1-477A-BB09-3F4751DD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07E9-137E-457A-8AB5-09E0F582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BFF9-2CD6-4ED7-856E-C47D0517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A208B8-E698-4ADF-8467-C07E45AE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B613CF-7717-4A5F-8502-E67B8B05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100628-AFD9-4830-A3D4-7FB67EE3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A32D2C-27D4-4A2E-ACA0-589C0489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ACE5A9-63B2-476A-85FB-2CC475179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BB9C-B357-48A5-9399-F19015BA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D66D-D64F-491D-824D-37677F74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BC70-04A8-40B2-AE7A-F93879B42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9B06-821A-496A-817F-2C2D249AB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527E1-F87A-4367-94F5-C32C98A5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9FBAE-4ACC-490B-8FE0-B54E9EFF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689E0-C110-4FFF-8CB7-0DF9CA7D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2CAC3-BE23-40DE-B55B-C411884C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36A17-4C9B-49FE-83E1-55C4BB09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E382-F625-43ED-9C0D-BFCFF036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E8524-0B64-4276-AB68-CD833DE8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CE928-67E5-48E8-ADF9-29C8617D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0A0AD-1D1E-4CC2-A35F-2A950B7F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A9323-B7AE-46BE-A123-3072EA58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D41D8-FD40-401B-B2EC-1F45E115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B5B58-2C81-42C6-AF1A-9CD14B31C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B844E-95DE-4C4A-99F8-015F7437A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94385-093D-4439-B141-DBCC99787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CB736-4654-404E-9827-DAC7EECF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55C5C-95C5-4D8A-82E7-5E70B5DA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E595-670F-4EB2-AFB7-03A54041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DA183-FADF-45F0-A9FC-DDD91BC2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1B339-8D33-4307-84C8-D4919DFE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CB53D-D497-4F3E-9CE4-E2347C35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57E1D-AA5F-4778-BC0F-29946263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C492B-059D-4DCE-A1E5-981CEC71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60205-8DFD-4705-A7FF-DF6FA721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D3B49-1E59-4E0E-BB75-C50A0353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31FA0-37AB-4072-B605-D6A84EE56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4BB94-7F83-4929-AB5B-D8D6A8051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34760-84CB-42E0-AB51-C4884E89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8604-C6C0-4AEB-ACE5-FDE29EA2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9086C-3127-4CC7-A06A-EF13B578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3DDC3-6536-4BE9-A530-34A5031C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08167-DE6D-46A3-82D0-8632C079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B9156-F8E5-4A72-898C-AF3B5479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383AD-ACE2-43AE-B7CF-BF1FD85E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FEE6E-E6A7-4BE9-9544-96862A6B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58023-AD1B-447D-AF77-F0B30C85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CB373-3FBA-4F9A-A4C3-A70705FD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18691-2630-4616-9616-01226B71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5D741-3CA5-4916-9D08-7820DEE25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B02C-380A-4E05-9DA1-7BF11AAC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04FC7-1003-478D-B1BE-A18786AA0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C24E0-352A-4A73-BCCC-5C3610725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83CD6-5FC6-4A63-9686-02A78972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6AEEE-99F6-4474-BAAD-91693223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D531C-7E8C-4042-A305-B3664FCC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BFCB9-98EF-4BFE-860D-4BDF5B88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E258B-71AE-47F8-9D06-A618FFFE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B538E-AD8C-48E0-88D3-CB4BDAA0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8B6FD-64E8-4036-AEE5-B850445F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A8F52-72BB-4C55-81EA-45CAD0C2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E5D3-295F-4FAB-B070-1271946A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2C6D0-7A9B-4EEF-B57B-92B589C5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6FAB8-4FC9-4702-8D49-FC8C09D4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D01E5-DD2F-4D12-AB54-B9F453B72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B03BE-DD07-4C69-A080-0559BF2A0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4CB8F-B071-41CE-8D1A-3B3F64F5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08F65-0ACC-4D11-B598-98FD09CD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E6E3B-435F-4745-994A-B205B976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1BBBD-C9A8-4BD1-9303-6603A05F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77BDC-5989-4AA2-A33B-244E0B32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34F9D-5C43-4BFC-83E4-14E00921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39D9-CED2-46E2-97C3-D8B2A5A7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3E280-52CA-4B54-819D-5F56FB8C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15155-9E24-48E2-A296-B9794FC0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1310A-A0CB-4BFA-9E7B-25D8834B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077CE-CD9E-4DB5-9C3C-C29A041FC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4A673-9685-4B72-A609-A17E74180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50BEE-612B-458F-8D7E-474A8B26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3920C-04F1-4476-A3EE-B53D7846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7A236-EC40-47C5-B6D6-4158C08D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A9DFE-A60C-4D5E-9D22-2D21F8AF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6B557-C18A-4DF1-8339-9D3C0640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39FD-A44C-411E-A372-FD432666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7997A-CC84-4651-95FF-0F6A450E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6B108-35B4-453C-8ED3-BA691A32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50A0A-EE44-4B5B-A4B2-CC255DBA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57434-E6BE-4EA5-B8DA-DF6C96F9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FB816-102C-4261-983E-8FCBE00A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5E96F-5D86-4D90-94BC-9F11A482C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A3882-67C0-4A23-93E5-0DB5A1894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63368-D8B0-4137-AE15-48B5D236A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29D6C-C9F6-4231-AB9D-BB4660B3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F76ECC-6651-4A7A-92B2-97F45755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5EF0-D955-464B-94F9-96605459D7D8}" type="slidenum">
              <a:rPr b="0" lang="lt-LT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A9EE-1498-411A-AEDB-8B1B2AB87C4A}" type="slidenum">
              <a:rPr b="0" lang="lt-LT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4E21-2BAA-4568-9881-D4378B26C098}" type="slidenum">
              <a:rPr b="0" lang="lt-LT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Box 19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1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5790-2E9B-464A-A83E-E3FA273749AF}" type="slidenum">
              <a:rPr b="0" lang="lt-LT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E805-3396-44AF-9FBD-EFB92ED9213F}" type="slidenum">
              <a:rPr b="0" lang="lt-LT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23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24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4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4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4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FFDB-006B-48A7-8F76-A498E0FA79B3}" type="slidenum">
              <a:rPr b="0" lang="lt-LT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43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44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45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9F10-ACA4-4B6D-A62F-8904795F572E}" type="slidenum">
              <a:rPr b="0" lang="lt-LT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46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47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48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4D68-577A-4180-AEBA-460BE89AB56F}" type="slidenum">
              <a:rPr b="0" lang="lt-LT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dt" idx="49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ftr" idx="50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 type="sldNum" idx="51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B4DF-8611-4F0B-8FCE-2305263A9E5E}" type="slidenum">
              <a:rPr b="0" lang="lt-LT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1524-3FEB-4D53-B879-357EC461BB8B}" type="slidenum">
              <a:rPr b="0" lang="lt-LT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001F-D514-4DA3-B9F1-EB3BBF4E8AEC}" type="slidenum">
              <a:rPr b="0" lang="lt-LT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342B-CAEE-4B38-876C-A0940D4FE6F8}" type="slidenum">
              <a:rPr b="0" lang="lt-LT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CF6D-766B-4EFD-AE84-8564E3DAC956}" type="slidenum">
              <a:rPr b="0" lang="lt-LT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4948-2379-4FB1-AF92-C236C73E3ACA}" type="slidenum">
              <a:rPr b="0" lang="lt-LT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3433-B8D9-4475-9155-365C7B763C4E}" type="slidenum">
              <a:rPr b="0" lang="lt-LT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2191-000B-4D10-A9E1-F7A2ED45F6ED}" type="slidenum">
              <a:rPr b="0" lang="lt-LT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5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6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7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56EA-99A2-446D-AF18-F5CEB12850F8}" type="slidenum">
              <a:rPr b="0" lang="lt-LT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image" Target="../media/image1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211400" y="2108160"/>
            <a:ext cx="8542080" cy="309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5400" spc="-1" strike="noStrike">
                <a:solidFill>
                  <a:srgbClr val="000000"/>
                </a:solidFill>
                <a:latin typeface="Trebuchet MS"/>
              </a:rPr>
              <a:t>NUOTOLINIS APSKAITOS PRIETAISŲ NUSKAITYMAS IR MONITORINGAS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1523880" y="6687720"/>
            <a:ext cx="91440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lt-LT" sz="500" spc="-1" strike="noStrike">
              <a:solidFill>
                <a:srgbClr val="7f7f7f"/>
              </a:solidFill>
              <a:latin typeface="Trebuchet MS"/>
            </a:endParaRPr>
          </a:p>
        </p:txBody>
      </p:sp>
      <p:pic>
        <p:nvPicPr>
          <p:cNvPr id="725" name="Paveikslėlis 3" descr=""/>
          <p:cNvPicPr/>
          <p:nvPr/>
        </p:nvPicPr>
        <p:blipFill>
          <a:blip r:embed="rId1"/>
          <a:stretch/>
        </p:blipFill>
        <p:spPr>
          <a:xfrm>
            <a:off x="2581200" y="522360"/>
            <a:ext cx="5300640" cy="1292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rebuchet MS"/>
              </a:rPr>
              <a:t>APSKAITOS PRIETAISAI IR DUOMENŲ PERDAVIMO ĮRANGA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677520" y="2381040"/>
            <a:ext cx="8596440" cy="32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rebuchet MS"/>
              </a:rPr>
              <a:t>Bevieliai wMBus skaitikliai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rebuchet MS"/>
              </a:rPr>
              <a:t>Laidiniai skaitikliai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rebuchet MS"/>
              </a:rPr>
              <a:t>Kompaktiškas duomenų nuskaitymo skydas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rebuchet MS"/>
              </a:rPr>
              <a:t>Universalus valdiklis, su galimybe pasirinkti komplektaciją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rebuchet MS"/>
              </a:rPr>
              <a:t>Galimybė nuskaityti įvairių sąsajų skaitiklius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rebuchet MS"/>
              </a:rPr>
              <a:t>Neribotas nuskaitomų apskaitos prietaisų kiekis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rebuchet MS"/>
              </a:rPr>
              <a:t>Servisa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766" name="Paveikslėlis 3" descr=""/>
          <p:cNvPicPr/>
          <p:nvPr/>
        </p:nvPicPr>
        <p:blipFill>
          <a:blip r:embed="rId1"/>
          <a:stretch/>
        </p:blipFill>
        <p:spPr>
          <a:xfrm>
            <a:off x="10020240" y="0"/>
            <a:ext cx="2171880" cy="719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11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rebuchet MS"/>
              </a:rPr>
              <a:t>ARTAKIJOS DUOMENŲ NUSKAITYMO PROGRAMA:</a:t>
            </a:r>
            <a:br>
              <a:rPr sz="32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677520" y="2166480"/>
            <a:ext cx="859644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rebuchet MS"/>
              </a:rPr>
              <a:t>Patogus prisijungimas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rebuchet MS"/>
              </a:rPr>
              <a:t>Paprastas ir informatyvus meniu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rebuchet MS"/>
              </a:rPr>
              <a:t>Neriboti duomenų archyvai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rebuchet MS"/>
              </a:rPr>
              <a:t>Automatinės ataskaitos ir pranešimai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rebuchet MS"/>
              </a:rPr>
              <a:t>Galimybė pridėti nauj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as funkcijas</a:t>
            </a:r>
            <a:r>
              <a:rPr b="1" lang="lt-LT" sz="2000" spc="-1" strike="noStrike">
                <a:solidFill>
                  <a:srgbClr val="000000"/>
                </a:solidFill>
                <a:latin typeface="Trebuchet MS"/>
              </a:rPr>
              <a:t>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rebuchet MS"/>
              </a:rPr>
              <a:t>Administravimas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rebuchet MS"/>
              </a:rPr>
              <a:t>Nuolatinė sistemos priežiūra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lt-LT" sz="2000" spc="-1" strike="noStrike">
                <a:solidFill>
                  <a:srgbClr val="00b05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769" name="Paveikslėlis 3" descr=""/>
          <p:cNvPicPr/>
          <p:nvPr/>
        </p:nvPicPr>
        <p:blipFill>
          <a:blip r:embed="rId1"/>
          <a:stretch/>
        </p:blipFill>
        <p:spPr>
          <a:xfrm>
            <a:off x="10020240" y="0"/>
            <a:ext cx="2171880" cy="719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20920" y="2541240"/>
            <a:ext cx="7516800" cy="35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In</a:t>
            </a:r>
            <a:r>
              <a:rPr b="0" lang="lt-LT" sz="2500" spc="-1" strike="noStrike">
                <a:solidFill>
                  <a:srgbClr val="000000"/>
                </a:solidFill>
                <a:latin typeface="Arial"/>
              </a:rPr>
              <a:t>žinierius</a:t>
            </a:r>
            <a:br>
              <a:rPr sz="2500"/>
            </a:br>
            <a:r>
              <a:rPr b="0" lang="lt-LT" sz="2500" spc="-1" strike="noStrike">
                <a:solidFill>
                  <a:srgbClr val="000000"/>
                </a:solidFill>
                <a:latin typeface="Arial"/>
              </a:rPr>
              <a:t>NERIJUS TOMKEVIČIUS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+370 606 82231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.tomkevicius@artakija.lt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771" name="Paveikslėlis 3" descr=""/>
          <p:cNvPicPr/>
          <p:nvPr/>
        </p:nvPicPr>
        <p:blipFill>
          <a:blip r:embed="rId1"/>
          <a:stretch/>
        </p:blipFill>
        <p:spPr>
          <a:xfrm>
            <a:off x="3527280" y="369720"/>
            <a:ext cx="4073760" cy="1347840"/>
          </a:xfrm>
          <a:prstGeom prst="rect">
            <a:avLst/>
          </a:prstGeom>
          <a:ln w="0">
            <a:noFill/>
          </a:ln>
        </p:spPr>
      </p:pic>
      <p:pic>
        <p:nvPicPr>
          <p:cNvPr id="772" name="Paveikslėlis 3" descr=""/>
          <p:cNvPicPr/>
          <p:nvPr/>
        </p:nvPicPr>
        <p:blipFill>
          <a:blip r:embed="rId2"/>
          <a:stretch/>
        </p:blipFill>
        <p:spPr>
          <a:xfrm>
            <a:off x="2581200" y="522360"/>
            <a:ext cx="5300640" cy="1292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53640" y="554040"/>
            <a:ext cx="852012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rebuchet MS"/>
              </a:rPr>
              <a:t>Duomenų nuskaitymo ir perdavimo schema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727" name="Turinio vietos rezervavimo ženklas 3" descr=""/>
          <p:cNvPicPr/>
          <p:nvPr/>
        </p:nvPicPr>
        <p:blipFill>
          <a:blip r:embed="rId1"/>
          <a:stretch/>
        </p:blipFill>
        <p:spPr>
          <a:xfrm>
            <a:off x="839880" y="2735280"/>
            <a:ext cx="9456480" cy="2487600"/>
          </a:xfrm>
          <a:prstGeom prst="rect">
            <a:avLst/>
          </a:prstGeom>
          <a:ln w="0">
            <a:noFill/>
          </a:ln>
        </p:spPr>
      </p:pic>
      <p:pic>
        <p:nvPicPr>
          <p:cNvPr id="728" name="Paveikslėlis 2" descr=""/>
          <p:cNvPicPr/>
          <p:nvPr/>
        </p:nvPicPr>
        <p:blipFill>
          <a:blip r:embed="rId2"/>
          <a:stretch/>
        </p:blipFill>
        <p:spPr>
          <a:xfrm>
            <a:off x="10020240" y="0"/>
            <a:ext cx="2171880" cy="719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15760" y="181080"/>
            <a:ext cx="845820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rebuchet MS"/>
              </a:rPr>
              <a:t>Valdiklis-koncentratoriu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730" name="Turinio vietos rezervavimo ženklas 3" descr=""/>
          <p:cNvPicPr/>
          <p:nvPr/>
        </p:nvPicPr>
        <p:blipFill>
          <a:blip r:embed="rId1"/>
          <a:stretch/>
        </p:blipFill>
        <p:spPr>
          <a:xfrm>
            <a:off x="266760" y="1414440"/>
            <a:ext cx="4892760" cy="3301920"/>
          </a:xfrm>
          <a:prstGeom prst="rect">
            <a:avLst/>
          </a:prstGeom>
          <a:ln w="0">
            <a:noFill/>
          </a:ln>
        </p:spPr>
      </p:pic>
      <p:pic>
        <p:nvPicPr>
          <p:cNvPr id="731" name="Paveikslėlis 4" descr=""/>
          <p:cNvPicPr/>
          <p:nvPr/>
        </p:nvPicPr>
        <p:blipFill>
          <a:blip r:embed="rId2"/>
          <a:stretch/>
        </p:blipFill>
        <p:spPr>
          <a:xfrm>
            <a:off x="10020240" y="0"/>
            <a:ext cx="2171880" cy="719280"/>
          </a:xfrm>
          <a:prstGeom prst="rect">
            <a:avLst/>
          </a:prstGeom>
          <a:ln w="0">
            <a:noFill/>
          </a:ln>
        </p:spPr>
      </p:pic>
      <p:sp>
        <p:nvSpPr>
          <p:cNvPr id="732" name="Stačiakampis 2"/>
          <p:cNvSpPr/>
          <p:nvPr/>
        </p:nvSpPr>
        <p:spPr>
          <a:xfrm>
            <a:off x="5159520" y="1028880"/>
            <a:ext cx="52783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rebuchet MS"/>
                <a:ea typeface="Arial"/>
              </a:rPr>
              <a:t>Pagrindinės funkcij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rebuchet MS"/>
                <a:ea typeface="Arial"/>
              </a:rPr>
              <a:t>-Laisvai parenkamos sąsajos: iki 5 laisvai parenkamo tipo sąsaj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rebuchet MS"/>
                <a:ea typeface="Arial"/>
              </a:rPr>
              <a:t>-Galimi sąsajų tipai: RS485, RS232, Opto (Kamstrup), Mbus, Srovės kilpa, USB, GSM/GPRS ir L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rebuchet MS"/>
                <a:ea typeface="Arial"/>
              </a:rPr>
              <a:t>-Atminties išplėtimas: iki 8Gb micro SD kortelė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rebuchet MS"/>
                <a:ea typeface="Arial"/>
              </a:rPr>
              <a:t>-Palaikomi protokolai: Modbus RTU, Modbus TCP/IP, IP, ICMP, UDP, TCP, DHCP, PPP, ARP, SNTP, IEC60870-5-104:200, skaidrus, DynDNS, DNS (client), FTP (server&amp;clie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rebuchet MS"/>
                <a:ea typeface="Arial"/>
              </a:rPr>
              <a:t>-Maršrutizavimas: GSM - Ethernet maršrutizavimo galimyb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rebuchet MS"/>
                <a:ea typeface="Arial"/>
              </a:rPr>
              <a:t>-Specifinės funkcijos: skaidrus nestandartizuoto protokolo duomenų perdavi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rebuchet MS"/>
                <a:ea typeface="Arial"/>
              </a:rPr>
              <a:t>-Maitinimas: 9-36 (10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rebuchet MS"/>
                <a:ea typeface="Arial"/>
              </a:rPr>
              <a:t>-Išduoda įtampą: 3,7; 5; 6; 8 arba 10 VDC (20m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rebuchet MS"/>
              </a:rPr>
              <a:t>Paruoštas skaitiklių nuskaitymo skyda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734" name="Turinio vietos rezervavimo ženklas 3" descr=""/>
          <p:cNvPicPr/>
          <p:nvPr/>
        </p:nvPicPr>
        <p:blipFill>
          <a:blip r:embed="rId1"/>
          <a:stretch/>
        </p:blipFill>
        <p:spPr>
          <a:xfrm>
            <a:off x="2882880" y="1523880"/>
            <a:ext cx="3987720" cy="4910400"/>
          </a:xfrm>
          <a:prstGeom prst="rect">
            <a:avLst/>
          </a:prstGeom>
          <a:ln w="0">
            <a:noFill/>
          </a:ln>
        </p:spPr>
      </p:pic>
      <p:pic>
        <p:nvPicPr>
          <p:cNvPr id="735" name="Paveikslėlis 4" descr=""/>
          <p:cNvPicPr/>
          <p:nvPr/>
        </p:nvPicPr>
        <p:blipFill>
          <a:blip r:embed="rId2"/>
          <a:stretch/>
        </p:blipFill>
        <p:spPr>
          <a:xfrm>
            <a:off x="10022040" y="0"/>
            <a:ext cx="2170080" cy="719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rebuchet MS"/>
              </a:rPr>
              <a:t>Duomenų nuskaitymo schema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737" name="Paveikslėlis 5" descr=""/>
          <p:cNvPicPr/>
          <p:nvPr/>
        </p:nvPicPr>
        <p:blipFill>
          <a:blip r:embed="rId1"/>
          <a:stretch/>
        </p:blipFill>
        <p:spPr>
          <a:xfrm>
            <a:off x="7407360" y="1515960"/>
            <a:ext cx="4784760" cy="1695600"/>
          </a:xfrm>
          <a:prstGeom prst="rect">
            <a:avLst/>
          </a:prstGeom>
          <a:ln w="0">
            <a:noFill/>
          </a:ln>
        </p:spPr>
      </p:pic>
      <p:sp>
        <p:nvSpPr>
          <p:cNvPr id="738" name="Rodyklė žemyn 6"/>
          <p:cNvSpPr/>
          <p:nvPr/>
        </p:nvSpPr>
        <p:spPr>
          <a:xfrm rot="3918600">
            <a:off x="7794000" y="2550240"/>
            <a:ext cx="233280" cy="2952720"/>
          </a:xfrm>
          <a:prstGeom prst="downArrow">
            <a:avLst>
              <a:gd name="adj1" fmla="val 50000"/>
              <a:gd name="adj2" fmla="val 50044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Paveikslėlis 7" descr=""/>
          <p:cNvPicPr/>
          <p:nvPr/>
        </p:nvPicPr>
        <p:blipFill>
          <a:blip r:embed="rId2"/>
          <a:stretch/>
        </p:blipFill>
        <p:spPr>
          <a:xfrm>
            <a:off x="3419640" y="4633920"/>
            <a:ext cx="3079440" cy="2224080"/>
          </a:xfrm>
          <a:prstGeom prst="rect">
            <a:avLst/>
          </a:prstGeom>
          <a:ln w="0">
            <a:noFill/>
          </a:ln>
        </p:spPr>
      </p:pic>
      <p:sp>
        <p:nvSpPr>
          <p:cNvPr id="740" name="Rodyklė dešinėn 8"/>
          <p:cNvSpPr/>
          <p:nvPr/>
        </p:nvSpPr>
        <p:spPr>
          <a:xfrm>
            <a:off x="6632640" y="5775480"/>
            <a:ext cx="1703160" cy="50616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Trebuchet MS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odyklė dešinėn 18"/>
          <p:cNvSpPr/>
          <p:nvPr/>
        </p:nvSpPr>
        <p:spPr>
          <a:xfrm>
            <a:off x="6610320" y="5011560"/>
            <a:ext cx="1725480" cy="48600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Trebuchet MS"/>
              </a:rPr>
              <a:t>GP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aveikslėlis 21" descr=""/>
          <p:cNvPicPr/>
          <p:nvPr/>
        </p:nvPicPr>
        <p:blipFill>
          <a:blip r:embed="rId3"/>
          <a:srcRect l="0" t="447" r="78293" b="-546"/>
          <a:stretch/>
        </p:blipFill>
        <p:spPr>
          <a:xfrm>
            <a:off x="10533240" y="4932360"/>
            <a:ext cx="1341360" cy="1450800"/>
          </a:xfrm>
          <a:prstGeom prst="rect">
            <a:avLst/>
          </a:prstGeom>
          <a:ln w="0">
            <a:noFill/>
          </a:ln>
        </p:spPr>
      </p:pic>
      <p:pic>
        <p:nvPicPr>
          <p:cNvPr id="743" name="Paveikslėlis 22" descr=""/>
          <p:cNvPicPr/>
          <p:nvPr/>
        </p:nvPicPr>
        <p:blipFill>
          <a:blip r:embed="rId4"/>
          <a:srcRect l="34856" t="-74" r="47859" b="744"/>
          <a:stretch/>
        </p:blipFill>
        <p:spPr>
          <a:xfrm>
            <a:off x="8335800" y="4932360"/>
            <a:ext cx="1030320" cy="1441440"/>
          </a:xfrm>
          <a:prstGeom prst="rect">
            <a:avLst/>
          </a:prstGeom>
          <a:ln w="0">
            <a:noFill/>
          </a:ln>
        </p:spPr>
      </p:pic>
      <p:sp>
        <p:nvSpPr>
          <p:cNvPr id="744" name="Rodyklė kairėn 30"/>
          <p:cNvSpPr/>
          <p:nvPr/>
        </p:nvSpPr>
        <p:spPr>
          <a:xfrm>
            <a:off x="9460080" y="5411880"/>
            <a:ext cx="979200" cy="48420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Trebuchet MS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Paveikslėlis 32" descr=""/>
          <p:cNvPicPr/>
          <p:nvPr/>
        </p:nvPicPr>
        <p:blipFill>
          <a:blip r:embed="rId5"/>
          <a:stretch/>
        </p:blipFill>
        <p:spPr>
          <a:xfrm>
            <a:off x="411120" y="4822920"/>
            <a:ext cx="1779480" cy="1660320"/>
          </a:xfrm>
          <a:prstGeom prst="rect">
            <a:avLst/>
          </a:prstGeom>
          <a:ln w="0">
            <a:noFill/>
          </a:ln>
        </p:spPr>
      </p:pic>
      <p:sp>
        <p:nvSpPr>
          <p:cNvPr id="746" name="Rodyklė dešinėn 33"/>
          <p:cNvSpPr/>
          <p:nvPr/>
        </p:nvSpPr>
        <p:spPr>
          <a:xfrm>
            <a:off x="2379600" y="542592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Trebuchet MS"/>
              </a:rPr>
              <a:t>M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odyklė žemyn 2"/>
          <p:cNvSpPr/>
          <p:nvPr/>
        </p:nvSpPr>
        <p:spPr>
          <a:xfrm rot="3285000">
            <a:off x="1959480" y="3231360"/>
            <a:ext cx="195480" cy="1815840"/>
          </a:xfrm>
          <a:prstGeom prst="downArrow">
            <a:avLst>
              <a:gd name="adj1" fmla="val 50000"/>
              <a:gd name="adj2" fmla="val 49929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Paveikslėlis 14" descr=""/>
          <p:cNvPicPr/>
          <p:nvPr/>
        </p:nvPicPr>
        <p:blipFill>
          <a:blip r:embed="rId6"/>
          <a:stretch/>
        </p:blipFill>
        <p:spPr>
          <a:xfrm>
            <a:off x="10020240" y="0"/>
            <a:ext cx="2171880" cy="719280"/>
          </a:xfrm>
          <a:prstGeom prst="rect">
            <a:avLst/>
          </a:prstGeom>
          <a:ln w="0">
            <a:noFill/>
          </a:ln>
        </p:spPr>
      </p:pic>
      <p:pic>
        <p:nvPicPr>
          <p:cNvPr id="749" name="Paveikslėlis 3" descr=""/>
          <p:cNvPicPr/>
          <p:nvPr/>
        </p:nvPicPr>
        <p:blipFill>
          <a:blip r:embed="rId7"/>
          <a:stretch/>
        </p:blipFill>
        <p:spPr>
          <a:xfrm>
            <a:off x="5200560" y="1539720"/>
            <a:ext cx="2206800" cy="1648080"/>
          </a:xfrm>
          <a:prstGeom prst="rect">
            <a:avLst/>
          </a:prstGeom>
          <a:ln w="0">
            <a:noFill/>
          </a:ln>
        </p:spPr>
      </p:pic>
      <p:pic>
        <p:nvPicPr>
          <p:cNvPr id="750" name="Turinio vietos rezervavimo ženklas 10" descr=""/>
          <p:cNvPicPr/>
          <p:nvPr/>
        </p:nvPicPr>
        <p:blipFill>
          <a:blip r:embed="rId8"/>
          <a:stretch/>
        </p:blipFill>
        <p:spPr>
          <a:xfrm>
            <a:off x="36360" y="1494000"/>
            <a:ext cx="3206880" cy="2081160"/>
          </a:xfrm>
          <a:prstGeom prst="rect">
            <a:avLst/>
          </a:prstGeom>
          <a:ln w="0">
            <a:noFill/>
          </a:ln>
        </p:spPr>
      </p:pic>
      <p:pic>
        <p:nvPicPr>
          <p:cNvPr id="751" name="Paveikslėlis 11" descr=""/>
          <p:cNvPicPr/>
          <p:nvPr/>
        </p:nvPicPr>
        <p:blipFill>
          <a:blip r:embed="rId9"/>
          <a:stretch/>
        </p:blipFill>
        <p:spPr>
          <a:xfrm>
            <a:off x="3189240" y="1373040"/>
            <a:ext cx="1119240" cy="21621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76440" y="-360"/>
            <a:ext cx="10329840" cy="11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4300" spc="-1" strike="noStrike">
                <a:solidFill>
                  <a:srgbClr val="000000"/>
                </a:solidFill>
                <a:latin typeface="Trebuchet MS"/>
              </a:rPr>
              <a:t>PROGRAMA</a:t>
            </a:r>
            <a:br>
              <a:rPr sz="5400"/>
            </a:br>
            <a:r>
              <a:rPr b="1" lang="lt-LT" sz="2500" spc="-1" strike="noStrike">
                <a:solidFill>
                  <a:srgbClr val="000000"/>
                </a:solidFill>
                <a:latin typeface="Trebuchet MS"/>
              </a:rPr>
              <a:t>ADMINISTRATORIUS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753" name="Paveikslėlis 3" descr=""/>
          <p:cNvPicPr/>
          <p:nvPr/>
        </p:nvPicPr>
        <p:blipFill>
          <a:blip r:embed="rId1"/>
          <a:stretch/>
        </p:blipFill>
        <p:spPr>
          <a:xfrm>
            <a:off x="10020240" y="0"/>
            <a:ext cx="2171880" cy="719280"/>
          </a:xfrm>
          <a:prstGeom prst="rect">
            <a:avLst/>
          </a:prstGeom>
          <a:ln w="0">
            <a:noFill/>
          </a:ln>
        </p:spPr>
      </p:pic>
      <p:pic>
        <p:nvPicPr>
          <p:cNvPr id="754" name="Turinio vietos rezervavimo ženklas 5" descr=""/>
          <p:cNvPicPr/>
          <p:nvPr/>
        </p:nvPicPr>
        <p:blipFill>
          <a:blip r:embed="rId2"/>
          <a:stretch/>
        </p:blipFill>
        <p:spPr>
          <a:xfrm>
            <a:off x="676440" y="1276200"/>
            <a:ext cx="10329840" cy="5581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10515600" cy="11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rebuchet MS"/>
              </a:rPr>
              <a:t>PROGRAMA</a:t>
            </a:r>
            <a:br>
              <a:rPr sz="5300"/>
            </a:br>
            <a:r>
              <a:rPr b="1" lang="lt-LT" sz="2800" spc="-1" strike="noStrike">
                <a:solidFill>
                  <a:srgbClr val="000000"/>
                </a:solidFill>
                <a:latin typeface="Trebuchet MS"/>
              </a:rPr>
              <a:t>VARTOTOJAS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756" name="Turinio vietos rezervavimo ženklas 3" descr=""/>
          <p:cNvPicPr/>
          <p:nvPr/>
        </p:nvPicPr>
        <p:blipFill>
          <a:blip r:embed="rId1"/>
          <a:stretch/>
        </p:blipFill>
        <p:spPr>
          <a:xfrm>
            <a:off x="838080" y="1128600"/>
            <a:ext cx="10515600" cy="5729400"/>
          </a:xfrm>
          <a:prstGeom prst="rect">
            <a:avLst/>
          </a:prstGeom>
          <a:ln w="0">
            <a:noFill/>
          </a:ln>
        </p:spPr>
      </p:pic>
      <p:pic>
        <p:nvPicPr>
          <p:cNvPr id="757" name="Paveikslėlis 4" descr=""/>
          <p:cNvPicPr/>
          <p:nvPr/>
        </p:nvPicPr>
        <p:blipFill>
          <a:blip r:embed="rId2"/>
          <a:stretch/>
        </p:blipFill>
        <p:spPr>
          <a:xfrm>
            <a:off x="10020240" y="0"/>
            <a:ext cx="2171880" cy="719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1051560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rebuchet MS"/>
              </a:rPr>
              <a:t>PROGRAMA</a:t>
            </a:r>
            <a:br>
              <a:rPr sz="5400"/>
            </a:br>
            <a:r>
              <a:rPr b="1" lang="lt-LT" sz="2500" spc="-1" strike="noStrike">
                <a:solidFill>
                  <a:srgbClr val="000000"/>
                </a:solidFill>
                <a:latin typeface="Trebuchet MS"/>
              </a:rPr>
              <a:t>ADMINISTRATORIUS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759" name="Paveikslėlis 3" descr=""/>
          <p:cNvPicPr/>
          <p:nvPr/>
        </p:nvPicPr>
        <p:blipFill>
          <a:blip r:embed="rId1"/>
          <a:stretch/>
        </p:blipFill>
        <p:spPr>
          <a:xfrm>
            <a:off x="10020240" y="0"/>
            <a:ext cx="2171880" cy="719280"/>
          </a:xfrm>
          <a:prstGeom prst="rect">
            <a:avLst/>
          </a:prstGeom>
          <a:ln w="0">
            <a:noFill/>
          </a:ln>
        </p:spPr>
      </p:pic>
      <p:pic>
        <p:nvPicPr>
          <p:cNvPr id="760" name="Turinio vietos rezervavimo ženklas 7" descr=""/>
          <p:cNvPicPr/>
          <p:nvPr/>
        </p:nvPicPr>
        <p:blipFill>
          <a:blip r:embed="rId2"/>
          <a:stretch/>
        </p:blipFill>
        <p:spPr>
          <a:xfrm>
            <a:off x="1138320" y="1116000"/>
            <a:ext cx="10287000" cy="5742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600" cy="104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rebuchet MS"/>
              </a:rPr>
              <a:t>PROGRAMA</a:t>
            </a:r>
            <a:br>
              <a:rPr sz="5400"/>
            </a:br>
            <a:r>
              <a:rPr b="1" lang="lt-LT" sz="2500" spc="-1" strike="noStrike">
                <a:solidFill>
                  <a:srgbClr val="000000"/>
                </a:solidFill>
                <a:latin typeface="Trebuchet MS"/>
              </a:rPr>
              <a:t>ADMINISTRATORIUS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762" name="Paveikslėlis 3" descr=""/>
          <p:cNvPicPr/>
          <p:nvPr/>
        </p:nvPicPr>
        <p:blipFill>
          <a:blip r:embed="rId1"/>
          <a:stretch/>
        </p:blipFill>
        <p:spPr>
          <a:xfrm>
            <a:off x="10020240" y="0"/>
            <a:ext cx="2171880" cy="719280"/>
          </a:xfrm>
          <a:prstGeom prst="rect">
            <a:avLst/>
          </a:prstGeom>
          <a:ln w="0">
            <a:noFill/>
          </a:ln>
        </p:spPr>
      </p:pic>
      <p:pic>
        <p:nvPicPr>
          <p:cNvPr id="763" name="Turinio vietos rezervavimo ženklas 7" descr=""/>
          <p:cNvPicPr/>
          <p:nvPr/>
        </p:nvPicPr>
        <p:blipFill>
          <a:blip r:embed="rId2"/>
          <a:stretch/>
        </p:blipFill>
        <p:spPr>
          <a:xfrm>
            <a:off x="1143000" y="1225440"/>
            <a:ext cx="10131480" cy="56325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30T07:13:04Z</dcterms:created>
  <dc:creator>Nerijus Tomkevičius</dc:creator>
  <dc:description/>
  <dc:language>en-US</dc:language>
  <cp:lastModifiedBy>Nerijus Tomkevičius</cp:lastModifiedBy>
  <dcterms:modified xsi:type="dcterms:W3CDTF">2020-04-30T08:52:41Z</dcterms:modified>
  <cp:revision>153</cp:revision>
  <dc:subject/>
  <dc:title>NUOTOLINIS APSKAITOS PRIETAISŲ NUSKAITYMAS</dc:title>
</cp:coreProperties>
</file>