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842472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440" y="3474360"/>
            <a:ext cx="842472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356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6440" y="347436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3560" y="347436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5120" y="152388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3800" y="152388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6440" y="347436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5120" y="347436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3800" y="347436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06440" y="152388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4111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3560" y="1523880"/>
            <a:ext cx="4111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44520" y="642960"/>
            <a:ext cx="842472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25"/>
              </a:spcAft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3560" y="1523880"/>
            <a:ext cx="4111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6440" y="347436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6440" y="152388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4111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356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23560" y="347436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356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6440" y="3474360"/>
            <a:ext cx="842472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842472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6440" y="3474360"/>
            <a:ext cx="842472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2356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6440" y="347436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23560" y="347436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55120" y="152388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03800" y="152388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06440" y="347436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55120" y="347436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03800" y="347436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4111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3560" y="1523880"/>
            <a:ext cx="4111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44520" y="642960"/>
            <a:ext cx="842472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25"/>
              </a:spcAft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3560" y="1523880"/>
            <a:ext cx="4111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6440" y="347436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4111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356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3560" y="347436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356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6440" y="3474360"/>
            <a:ext cx="842472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7068120" y="-40885920"/>
            <a:ext cx="82862640" cy="88666560"/>
          </a:xfrm>
          <a:prstGeom prst="rect">
            <a:avLst/>
          </a:prstGeom>
          <a:noFill/>
          <a:ln cap="sq"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utiger 45 Light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06440" y="152388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55 Roman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-330120">
              <a:spcAft>
                <a:spcPts val="1125"/>
              </a:spcAft>
              <a:buClr>
                <a:srgbClr val="ffffff"/>
              </a:buClr>
              <a:buFont typeface="Wingdings" charset="2"/>
              <a:buChar char="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55 Roman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2" marL="992160" indent="-330120">
              <a:spcAft>
                <a:spcPts val="1125"/>
              </a:spcAft>
              <a:buClr>
                <a:srgbClr val="ffffff"/>
              </a:buClr>
              <a:buFont typeface="Frutiger 55 Roman"/>
              <a:buChar char="­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55 Roman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3" marL="1487520" indent="-330120">
              <a:spcAft>
                <a:spcPts val="1125"/>
              </a:spcAft>
              <a:buClr>
                <a:srgbClr val="000000"/>
              </a:buClr>
              <a:buFont typeface="Frutiger 55 Roman"/>
              <a:buChar char="-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55 Roman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4" marL="1984320" indent="-331560">
              <a:spcAft>
                <a:spcPts val="1125"/>
              </a:spcAft>
              <a:buClr>
                <a:srgbClr val="000000"/>
              </a:buClr>
              <a:buFont typeface="Frutiger 55 Roman"/>
              <a:buChar char="»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55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5" marL="1984320" indent="-331560">
              <a:spcAft>
                <a:spcPts val="1125"/>
              </a:spcAft>
              <a:buClr>
                <a:srgbClr val="000000"/>
              </a:buClr>
              <a:buFont typeface="Frutiger 55 Roman"/>
              <a:buChar char="»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55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6" marL="1984320" indent="-331560">
              <a:spcAft>
                <a:spcPts val="1125"/>
              </a:spcAft>
              <a:buClr>
                <a:srgbClr val="000000"/>
              </a:buClr>
              <a:buFont typeface="Frutiger 55 Roman"/>
              <a:buChar char="»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55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143000"/>
            <a:ext cx="6096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add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7000" y="-9360"/>
            <a:ext cx="9144000" cy="761760"/>
          </a:xfrm>
          <a:prstGeom prst="rect">
            <a:avLst/>
          </a:prstGeom>
          <a:solidFill>
            <a:srgbClr val="a9e3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643880" y="6165720"/>
            <a:ext cx="1150920" cy="5810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17520" y="6165720"/>
            <a:ext cx="511812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Frutiger 55 Roman"/>
              </a:rPr>
              <a:t>Dissemination Workshop of  OPTRES / Green-N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9800"/>
                </a:solidFill>
                <a:latin typeface="Frutiger 55 Roman"/>
              </a:rPr>
              <a:t>Vilnius,  November 13th 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47760" y="6093000"/>
            <a:ext cx="8448480" cy="0"/>
          </a:xfrm>
          <a:prstGeom prst="line">
            <a:avLst/>
          </a:prstGeom>
          <a:ln w="25560">
            <a:solidFill>
              <a:srgbClr val="2c86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37068120" y="-40885920"/>
            <a:ext cx="82862640" cy="88666560"/>
          </a:xfrm>
          <a:prstGeom prst="rect">
            <a:avLst/>
          </a:prstGeom>
          <a:noFill/>
          <a:ln cap="sq"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utiger 45 Light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76480" y="0"/>
            <a:ext cx="7067520" cy="5229000"/>
            <a:chOff x="2076480" y="0"/>
            <a:chExt cx="7067520" cy="522900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2076480" y="0"/>
              <a:ext cx="7067520" cy="142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2076480" y="1387800"/>
              <a:ext cx="7067520" cy="142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2076480" y="2707200"/>
              <a:ext cx="7067520" cy="13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>
              <a:off x="2076480" y="3946680"/>
              <a:ext cx="7067520" cy="128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0" y="0"/>
            <a:ext cx="2100240" cy="5229000"/>
            <a:chOff x="0" y="0"/>
            <a:chExt cx="2100240" cy="5229000"/>
          </a:xfrm>
        </p:grpSpPr>
        <p:pic>
          <p:nvPicPr>
            <p:cNvPr id="53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210024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7"/>
            <a:stretch/>
          </p:blipFill>
          <p:spPr>
            <a:xfrm>
              <a:off x="0" y="1374840"/>
              <a:ext cx="2100240" cy="14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8"/>
            <a:stretch/>
          </p:blipFill>
          <p:spPr>
            <a:xfrm>
              <a:off x="0" y="2721960"/>
              <a:ext cx="2100240" cy="13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9"/>
            <a:stretch/>
          </p:blipFill>
          <p:spPr>
            <a:xfrm>
              <a:off x="0" y="3939120"/>
              <a:ext cx="2100240" cy="12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284040" y="6165720"/>
            <a:ext cx="5079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Frutiger 55 Roman"/>
              </a:rPr>
              <a:t>Dissemination Workshop of  OPTRES / Green-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9800"/>
                </a:solidFill>
                <a:latin typeface="Frutiger 55 Roman"/>
              </a:rPr>
              <a:t>Vilnius,  November 13th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7589880" y="6170760"/>
            <a:ext cx="1206360" cy="609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7760" y="6093000"/>
            <a:ext cx="8448480" cy="0"/>
          </a:xfrm>
          <a:prstGeom prst="line">
            <a:avLst/>
          </a:prstGeom>
          <a:ln w="25560">
            <a:solidFill>
              <a:srgbClr val="2c86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1125"/>
              </a:spcAft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55 Roman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165240" indent="0" algn="ctr">
              <a:spcAft>
                <a:spcPts val="1125"/>
              </a:spcAft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55 Roman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2" marL="662040" algn="ctr">
              <a:spcAft>
                <a:spcPts val="1125"/>
              </a:spcAft>
              <a:buClr>
                <a:srgbClr val="ffffff"/>
              </a:buClr>
              <a:buFont typeface="Frutiger 55 Roman"/>
              <a:buChar char="­"/>
              <a:tabLst>
                <a:tab algn="l" pos="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55 Roman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3" marL="1157400" algn="ctr">
              <a:buClr>
                <a:srgbClr val="000000"/>
              </a:buClr>
              <a:buFont typeface="Frutiger 55 Roman"/>
              <a:buChar char="-"/>
              <a:tabLst>
                <a:tab algn="l" pos="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4" marL="1652760" algn="ctr">
              <a:lnSpc>
                <a:spcPts val="1823"/>
              </a:lnSpc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5" marL="1652760">
              <a:spcBef>
                <a:spcPts val="400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6" marL="1652760">
              <a:spcBef>
                <a:spcPts val="400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hyperlink" Target="http://www.risoe.dk/" TargetMode="External"/><Relationship Id="rId6" Type="http://schemas.openxmlformats.org/officeDocument/2006/relationships/image" Target="../media/image12.png"/><Relationship Id="rId7" Type="http://schemas.openxmlformats.org/officeDocument/2006/relationships/hyperlink" Target="http://www.lei.lt/eng/index.htm" TargetMode="External"/><Relationship Id="rId8" Type="http://schemas.openxmlformats.org/officeDocument/2006/relationships/image" Target="../media/image13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3200" y="1341360"/>
            <a:ext cx="694044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9800"/>
                </a:solidFill>
                <a:latin typeface="Frutiger 55 Roman"/>
              </a:rPr>
              <a:t>Assessment and optimisation of renewable energy support schemes in the European electricity market </a:t>
            </a:r>
            <a:br>
              <a:rPr sz="2400"/>
            </a:br>
            <a:br>
              <a:rPr sz="2400"/>
            </a:br>
            <a:r>
              <a:rPr b="1" lang="en-US" sz="3800" spc="-1" strike="noStrike">
                <a:solidFill>
                  <a:srgbClr val="009800"/>
                </a:solidFill>
                <a:latin typeface="Frutiger 45 Light"/>
              </a:rPr>
              <a:t>O P T R E S</a:t>
            </a:r>
            <a:br>
              <a:rPr sz="2200"/>
            </a:br>
            <a:endParaRPr b="1" lang="en-US" sz="38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76480" y="3933360"/>
            <a:ext cx="6912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Aft>
                <a:spcPts val="1500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2400" spc="-1" strike="noStrike">
                <a:solidFill>
                  <a:srgbClr val="a2250c"/>
                </a:solidFill>
                <a:latin typeface="Frutiger 55 Roman"/>
              </a:rPr>
              <a:t> </a:t>
            </a:r>
            <a:r>
              <a:rPr b="1" lang="en-GB" sz="2400" spc="-1" strike="noStrike">
                <a:solidFill>
                  <a:srgbClr val="a2250c"/>
                </a:solidFill>
                <a:latin typeface="Frutiger 55 Roman"/>
              </a:rPr>
              <a:t>Anne Held, Mario Ragwitz</a:t>
            </a:r>
            <a:endParaRPr b="0" lang="en-US" sz="2400" spc="-1" strike="noStrike">
              <a:solidFill>
                <a:srgbClr val="ffffff"/>
              </a:solidFill>
              <a:latin typeface="Frutiger 55 Roman"/>
            </a:endParaRPr>
          </a:p>
          <a:p>
            <a:pPr indent="0" algn="ctr">
              <a:lnSpc>
                <a:spcPct val="60000"/>
              </a:lnSpc>
              <a:spcAft>
                <a:spcPts val="1250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2000" spc="-1" strike="noStrike">
                <a:solidFill>
                  <a:srgbClr val="a2250c"/>
                </a:solidFill>
                <a:latin typeface="Frutiger 55 Roman"/>
              </a:rPr>
              <a:t>Fraunhofer Institute Systems and Innovation Research </a:t>
            </a: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  <a:p>
            <a:pPr indent="0" algn="ctr">
              <a:lnSpc>
                <a:spcPct val="60000"/>
              </a:lnSpc>
              <a:spcAft>
                <a:spcPts val="1250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2000" spc="-1" strike="noStrike">
                <a:solidFill>
                  <a:srgbClr val="a2250c"/>
                </a:solidFill>
                <a:latin typeface="Frutiger 55 Roman"/>
              </a:rPr>
              <a:t>(Fh-ISI)</a:t>
            </a: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  <a:p>
            <a:pPr indent="0" algn="ctr">
              <a:lnSpc>
                <a:spcPct val="70000"/>
              </a:lnSpc>
              <a:spcAft>
                <a:spcPts val="1250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5160" y="1846080"/>
            <a:ext cx="8767800" cy="323820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 fontScale="94000"/>
          </a:bodyPr>
          <a:p>
            <a:pPr lvl="1" marL="465480" indent="-297000">
              <a:lnSpc>
                <a:spcPct val="110000"/>
              </a:lnSpc>
              <a:spcAft>
                <a:spcPts val="2251"/>
              </a:spcAft>
              <a:buClr>
                <a:srgbClr val="a2250c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2400" spc="-1" strike="noStrike">
                <a:solidFill>
                  <a:srgbClr val="a2250c"/>
                </a:solidFill>
                <a:latin typeface="Frutiger 55 Roman"/>
              </a:rPr>
              <a:t>Presentation of main results and recommendations of the project</a:t>
            </a:r>
            <a:br>
              <a:rPr sz="2400"/>
            </a:br>
            <a:r>
              <a:rPr b="1" lang="en-US" sz="2400" spc="-1" strike="noStrike">
                <a:solidFill>
                  <a:srgbClr val="a2250c"/>
                </a:solidFill>
                <a:latin typeface="Frutiger 55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65480" indent="-297000">
              <a:lnSpc>
                <a:spcPct val="110000"/>
              </a:lnSpc>
              <a:spcAft>
                <a:spcPts val="2251"/>
              </a:spcAft>
              <a:buClr>
                <a:srgbClr val="a2250c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2400" spc="-1" strike="noStrike">
                <a:solidFill>
                  <a:srgbClr val="a2250c"/>
                </a:solidFill>
                <a:latin typeface="Frutiger 55 Roman"/>
              </a:rPr>
              <a:t>Reflection of findings from the project with the participants</a:t>
            </a:r>
            <a:br>
              <a:rPr sz="2400"/>
            </a:br>
            <a:r>
              <a:rPr b="1" lang="en-US" sz="2400" spc="-1" strike="noStrike">
                <a:solidFill>
                  <a:srgbClr val="a2250c"/>
                </a:solidFill>
                <a:latin typeface="Frutiger 55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65480" indent="-297000">
              <a:lnSpc>
                <a:spcPct val="110000"/>
              </a:lnSpc>
              <a:spcAft>
                <a:spcPts val="2251"/>
              </a:spcAft>
              <a:buClr>
                <a:srgbClr val="a2250c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2400" spc="-1" strike="noStrike">
                <a:solidFill>
                  <a:srgbClr val="a2250c"/>
                </a:solidFill>
                <a:latin typeface="Frutiger 55 Roman"/>
              </a:rPr>
              <a:t>To learn from each other!</a:t>
            </a:r>
            <a:endParaRPr b="0" lang="en-US" sz="24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Expectations for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0" t="0" r="0" b="4725"/>
          <a:stretch/>
        </p:blipFill>
        <p:spPr>
          <a:xfrm>
            <a:off x="0" y="2637000"/>
            <a:ext cx="9144000" cy="4252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0" t="0" r="0" b="63002"/>
          <a:stretch/>
        </p:blipFill>
        <p:spPr>
          <a:xfrm>
            <a:off x="0" y="0"/>
            <a:ext cx="9118440" cy="2637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-7920" y="1052640"/>
            <a:ext cx="9171000" cy="5805360"/>
          </a:xfrm>
          <a:prstGeom prst="rect">
            <a:avLst/>
          </a:prstGeom>
          <a:gradFill rotWithShape="0">
            <a:gsLst>
              <a:gs pos="0">
                <a:srgbClr val="ffffeb"/>
              </a:gs>
              <a:gs pos="100000">
                <a:srgbClr val="fffff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66320" cy="11253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422520" y="333360"/>
            <a:ext cx="1509840" cy="679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55520" y="837720"/>
            <a:ext cx="87804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lvl="1" marL="495360" indent="0">
              <a:spcBef>
                <a:spcPts val="601"/>
              </a:spcBef>
              <a:spcAft>
                <a:spcPts val="1250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0" algn="ctr">
              <a:lnSpc>
                <a:spcPct val="12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36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0" algn="ctr">
              <a:lnSpc>
                <a:spcPct val="12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3600" spc="-1" strike="noStrike">
                <a:solidFill>
                  <a:srgbClr val="009800"/>
                </a:solidFill>
                <a:latin typeface="Frutiger 55 Roman"/>
              </a:rPr>
              <a:t>Thank you and enjoy the workshop!!!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3560" y="3500280"/>
            <a:ext cx="5248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2250c"/>
                </a:solidFill>
                <a:latin typeface="Frutiger 55 Roman"/>
              </a:rPr>
              <a:t>www.optres.fhg.d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38040" y="4788000"/>
            <a:ext cx="1728720" cy="87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459160" y="4861080"/>
          <a:ext cx="998280" cy="66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59160" y="4861080"/>
                    <a:ext cx="99828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986280" y="5076720"/>
            <a:ext cx="528480" cy="243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02360" y="4932360"/>
            <a:ext cx="969840" cy="565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65920" y="4932360"/>
            <a:ext cx="546120" cy="6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7835760" y="4932360"/>
          <a:ext cx="1022400" cy="59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35760" y="4932360"/>
                    <a:ext cx="10224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The project "OPTRES"</a:t>
            </a:r>
            <a:r>
              <a:rPr b="1" lang="de-DE" sz="2800" spc="-1" strike="noStrike">
                <a:solidFill>
                  <a:srgbClr val="ffffff"/>
                </a:solidFill>
                <a:latin typeface="Frutiger 45 Light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6280" y="1196640"/>
            <a:ext cx="842328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 fontScale="98000"/>
          </a:bodyPr>
          <a:p>
            <a:pPr indent="0">
              <a:lnSpc>
                <a:spcPct val="110000"/>
              </a:lnSpc>
              <a:spcBef>
                <a:spcPts val="689"/>
              </a:spcBef>
              <a:spcAft>
                <a:spcPts val="137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2400" spc="-1" strike="noStrike">
                <a:solidFill>
                  <a:srgbClr val="a2250c"/>
                </a:solidFill>
                <a:latin typeface="Frutiger 55 Roman"/>
              </a:rPr>
              <a:t>Assessment and optimisation of renewable energy </a:t>
            </a:r>
            <a:br>
              <a:rPr sz="2400"/>
            </a:br>
            <a:r>
              <a:rPr b="1" lang="en-GB" sz="2400" spc="-1" strike="noStrike">
                <a:solidFill>
                  <a:srgbClr val="a2250c"/>
                </a:solidFill>
                <a:latin typeface="Frutiger 55 Roman"/>
              </a:rPr>
              <a:t>support schemes in the European electricity market</a:t>
            </a:r>
            <a:br>
              <a:rPr sz="2200"/>
            </a:br>
            <a:endParaRPr b="0" lang="en-US" sz="2400" spc="-1" strike="noStrike">
              <a:solidFill>
                <a:srgbClr val="ffffff"/>
              </a:solidFill>
              <a:latin typeface="Frutiger 55 Roman"/>
            </a:endParaRPr>
          </a:p>
          <a:p>
            <a:pPr>
              <a:lnSpc>
                <a:spcPct val="110000"/>
              </a:lnSpc>
              <a:spcBef>
                <a:spcPts val="587"/>
              </a:spcBef>
              <a:spcAft>
                <a:spcPts val="1188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rutiger 55 Roman"/>
              </a:rPr>
              <a:t>   </a:t>
            </a:r>
            <a:r>
              <a:rPr b="0" lang="en-GB" sz="1900" spc="-1" strike="noStrike">
                <a:solidFill>
                  <a:srgbClr val="000000"/>
                </a:solidFill>
                <a:latin typeface="Frutiger 55 Roman"/>
              </a:rPr>
              <a:t>Duration: January 2005 - December 2006 (24 months) </a:t>
            </a:r>
            <a:endParaRPr b="0" lang="en-US" sz="1900" spc="-1" strike="noStrike">
              <a:solidFill>
                <a:srgbClr val="ffffff"/>
              </a:solidFill>
              <a:latin typeface="Frutiger 55 Roman"/>
            </a:endParaRPr>
          </a:p>
          <a:p>
            <a:pPr>
              <a:lnSpc>
                <a:spcPct val="110000"/>
              </a:lnSpc>
              <a:spcBef>
                <a:spcPts val="587"/>
              </a:spcBef>
              <a:spcAft>
                <a:spcPts val="1188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55 Roman"/>
              </a:rPr>
              <a:t>   </a:t>
            </a:r>
            <a:r>
              <a:rPr b="0" lang="en-GB" sz="1900" spc="-1" strike="noStrike">
                <a:solidFill>
                  <a:srgbClr val="000000"/>
                </a:solidFill>
                <a:latin typeface="Frutiger 55 Roman"/>
              </a:rPr>
              <a:t>Project supported by the “Intelligent Energy – Europe” Programme of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Frutiger 55 Roman"/>
              </a:rPr>
              <a:t>     the European Community</a:t>
            </a:r>
            <a:endParaRPr b="0" lang="en-US" sz="1900" spc="-1" strike="noStrike">
              <a:solidFill>
                <a:srgbClr val="ffffff"/>
              </a:solidFill>
              <a:latin typeface="Frutiger 55 Roman"/>
            </a:endParaRPr>
          </a:p>
          <a:p>
            <a:pPr indent="0">
              <a:lnSpc>
                <a:spcPct val="110000"/>
              </a:lnSpc>
              <a:spcBef>
                <a:spcPts val="587"/>
              </a:spcBef>
              <a:spcAft>
                <a:spcPts val="1188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9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5520" y="4149720"/>
            <a:ext cx="486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Frutiger 55 Roman"/>
              </a:rPr>
              <a:t>Project consorti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55160" y="1197000"/>
            <a:ext cx="87678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lvl="1" marL="495360" indent="-330120">
              <a:lnSpc>
                <a:spcPct val="110000"/>
              </a:lnSpc>
              <a:spcAft>
                <a:spcPts val="1400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 55 Roman"/>
              </a:rPr>
              <a:t>EC (1997): "White Paper for a Community Strategy and Action Plan, Energy for the Future: Renewable Sources of Energy" (COM(97)599 final)</a:t>
            </a: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 </a:t>
            </a:r>
            <a:br>
              <a:rPr sz="1600"/>
            </a:b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Objective 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 Contribution of RES to gross inland energy consumption in the EU should amount to 12 % by 2010.</a:t>
            </a:r>
            <a:endParaRPr b="0" lang="en-US" sz="15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-330120">
              <a:lnSpc>
                <a:spcPct val="110000"/>
              </a:lnSpc>
              <a:spcAft>
                <a:spcPts val="1400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 55 Roman"/>
              </a:rPr>
              <a:t>EC (2001): "Directive on the promotion of electricity from renewable energy sources"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Frutiger 55 Roman"/>
              </a:rPr>
              <a:t>(Directive 2001/77/EC)</a:t>
            </a: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 </a:t>
            </a:r>
            <a:br>
              <a:rPr sz="1600"/>
            </a:b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Objective 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 Share of RES in gross electricity consumption in the EU should be increased to 22 % by 2010, Indicative targets for member states were set, member states are requested to apply national policy measures for the support of RES-E</a:t>
            </a:r>
            <a:endParaRPr b="0" lang="en-US" sz="15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-330120">
              <a:lnSpc>
                <a:spcPct val="110000"/>
              </a:lnSpc>
              <a:spcAft>
                <a:spcPts val="1400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 55 Roman"/>
              </a:rPr>
              <a:t>EC (2005): "The support of electricity from renewable energy sources"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Frutiger 55 Roman"/>
              </a:rPr>
              <a:t>(COM(2005) 627 final)</a:t>
            </a:r>
            <a:br>
              <a:rPr sz="1600"/>
            </a:b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The success of the different policy instruments which are implemented among EU Member states were assessed as required within the RES-E Directive from 2001.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Results of the OPTRES-project were integrated into this analysis of the Commission</a:t>
            </a:r>
            <a:endParaRPr b="0" lang="en-US" sz="15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0">
              <a:lnSpc>
                <a:spcPct val="110000"/>
              </a:lnSpc>
              <a:spcAft>
                <a:spcPts val="1500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6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0">
              <a:lnSpc>
                <a:spcPct val="110000"/>
              </a:lnSpc>
              <a:spcAft>
                <a:spcPts val="1500"/>
              </a:spcAft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6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European policy background to the OPTRES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800" y="1341360"/>
            <a:ext cx="883116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 fontScale="92000"/>
          </a:bodyPr>
          <a:p>
            <a:pPr lvl="1" marL="455400" indent="-30348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Which of the currently implemented support schemes (feed-in law, quota obligation, tender procedure, investment incentive) are most effective and which are most efficient?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55400" indent="-30348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Are these support schemes compatible with the principles of the internal electricity market?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55400" indent="-30348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Which innovative policies and regulatory frameworks might be alternatives to the currently existing ones?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55400" indent="-30348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What are the main barriers to a further development of renewable energy sources (RES)?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55400" indent="-30348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Is a coordination of RES-E support in Europe preferable with respect to effectiveness and to efficiency in the future and which instruments are optimal in such a scenario?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Key questions of the OPTRES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2160" y="1341000"/>
            <a:ext cx="8704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 fontScale="99000"/>
          </a:bodyPr>
          <a:p>
            <a:pPr lvl="1" marL="490320" indent="-32652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Clear empirical insights into the present success and failures to support RES-E in Europe on Member State level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0320" indent="-32652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Quantitative results on the costs and benefits of future policies such optimised national and coordinated policy options based on the techno-economic model Green-X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0320" indent="-32652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Detailed definition of best practice criteria for renewable electricity support schemes and barrier mitigation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0320" indent="-32652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Stakeholder involvement through in-depth interviews and an internet based questionnaire have been carried out</a:t>
            </a: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0320" indent="-32652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Recommendations and action plan on optimisation of RES-E policy measures to support policy makers on European and national level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Achieved results of the OPTRES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5280" y="98100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 fontScale="99000"/>
          </a:bodyPr>
          <a:p>
            <a:pPr lvl="1" marL="490320" indent="-326520">
              <a:lnSpc>
                <a:spcPct val="110000"/>
              </a:lnSpc>
              <a:spcAft>
                <a:spcPts val="1500"/>
              </a:spcAft>
              <a:buClr>
                <a:srgbClr val="a2250c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 u="sng">
                <a:solidFill>
                  <a:srgbClr val="a2250c"/>
                </a:solidFill>
                <a:uFillTx/>
                <a:latin typeface="Frutiger 55 Roman"/>
              </a:rPr>
              <a:t>WP1: Current RES-E penetration and green electricity pric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WP-Leader: Lithuanian Energy Institute</a:t>
            </a:r>
            <a:endParaRPr b="0" lang="en-US" sz="16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0320" indent="-326520">
              <a:lnSpc>
                <a:spcPct val="110000"/>
              </a:lnSpc>
              <a:spcAft>
                <a:spcPts val="1500"/>
              </a:spcAft>
              <a:buClr>
                <a:srgbClr val="a2250c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 u="sng">
                <a:solidFill>
                  <a:srgbClr val="a2250c"/>
                </a:solidFill>
                <a:uFillTx/>
                <a:latin typeface="Frutiger 55 Roman"/>
              </a:rPr>
              <a:t>WP2: RES-E policy instrum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WP-Leader: Ecofys</a:t>
            </a:r>
            <a:endParaRPr b="0" lang="en-US" sz="16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0320" indent="-326520">
              <a:lnSpc>
                <a:spcPct val="110000"/>
              </a:lnSpc>
              <a:spcAft>
                <a:spcPts val="1500"/>
              </a:spcAft>
              <a:buClr>
                <a:srgbClr val="a2250c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 u="sng">
                <a:solidFill>
                  <a:srgbClr val="a2250c"/>
                </a:solidFill>
                <a:uFillTx/>
                <a:latin typeface="Frutiger 55 Roman"/>
              </a:rPr>
              <a:t>WP3: Costs and Potentials of RES-E with specific emphasis on biomas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WP-Leader: Energy Economics Group (EEG) – TU Vienna</a:t>
            </a:r>
            <a:endParaRPr b="0" lang="en-US" sz="16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0320" indent="-326520">
              <a:lnSpc>
                <a:spcPct val="110000"/>
              </a:lnSpc>
              <a:spcAft>
                <a:spcPts val="1500"/>
              </a:spcAft>
              <a:buClr>
                <a:srgbClr val="a2250c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 u="sng">
                <a:solidFill>
                  <a:srgbClr val="a2250c"/>
                </a:solidFill>
                <a:uFillTx/>
                <a:latin typeface="Frutiger 55 Roman"/>
              </a:rPr>
              <a:t>WP4: Derivation of indicators for current best practic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WP-Leader: Fraunhofer ISI</a:t>
            </a:r>
            <a:endParaRPr b="0" lang="en-US" sz="16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0320" indent="-326520">
              <a:lnSpc>
                <a:spcPct val="110000"/>
              </a:lnSpc>
              <a:spcAft>
                <a:spcPts val="1500"/>
              </a:spcAft>
              <a:buClr>
                <a:srgbClr val="a2250c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 u="sng">
                <a:solidFill>
                  <a:srgbClr val="a2250c"/>
                </a:solidFill>
                <a:uFillTx/>
                <a:latin typeface="Frutiger 55 Roman"/>
              </a:rPr>
              <a:t>WP5: Analysis of the support schemes with the model Green-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WP Leader: Energy Economics Group (EEG) – TU Vienna</a:t>
            </a:r>
            <a:endParaRPr b="0" lang="en-US" sz="16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0320" indent="-326520">
              <a:lnSpc>
                <a:spcPct val="110000"/>
              </a:lnSpc>
              <a:spcAft>
                <a:spcPts val="1500"/>
              </a:spcAft>
              <a:buClr>
                <a:srgbClr val="a2250c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 u="sng">
                <a:solidFill>
                  <a:srgbClr val="a2250c"/>
                </a:solidFill>
                <a:uFillTx/>
                <a:latin typeface="Frutiger 55 Roman"/>
              </a:rPr>
              <a:t>WP6: Interactions with other polici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WP-Leader: Risø National Laboratory</a:t>
            </a:r>
            <a:endParaRPr b="0" lang="en-US" sz="16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0320" indent="-326520">
              <a:lnSpc>
                <a:spcPct val="110000"/>
              </a:lnSpc>
              <a:spcAft>
                <a:spcPts val="1500"/>
              </a:spcAft>
              <a:buClr>
                <a:srgbClr val="a2250c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 u="sng">
                <a:solidFill>
                  <a:srgbClr val="a2250c"/>
                </a:solidFill>
                <a:uFillTx/>
                <a:latin typeface="Frutiger 55 Roman"/>
              </a:rPr>
              <a:t>WP7: Recommendati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WP-Leader: Energy Economics Group (EEG) – TU Vienna</a:t>
            </a:r>
            <a:endParaRPr b="0" lang="en-US" sz="16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Structure of the OPTRES-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0680" y="1413000"/>
            <a:ext cx="863928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lvl="1" marL="495360" indent="-330120">
              <a:lnSpc>
                <a:spcPct val="110000"/>
              </a:lnSpc>
              <a:spcAft>
                <a:spcPts val="1874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The effectiveness as well as the economic efficiency of support measures for RES-E in Europe is very heterogeneous across Member States. The most effective instruments often tend to be very successful with respect to their economic efficiency as well.</a:t>
            </a: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-330120">
              <a:lnSpc>
                <a:spcPct val="110000"/>
              </a:lnSpc>
              <a:spcAft>
                <a:spcPts val="1874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Among the key barriers hampering a faster development of RES-E in Europe administrative and regulative obstacles as well as grid connection barriers are most relevant.</a:t>
            </a: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-330120">
              <a:lnSpc>
                <a:spcPct val="110000"/>
              </a:lnSpc>
              <a:spcAft>
                <a:spcPts val="1874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In the short to mid term the highest efficiency gains with respect to RES-E support can be achieved through an optimisation and a regional coordination of national policy measures. </a:t>
            </a: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Main findings of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47400" y="1196640"/>
            <a:ext cx="85122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lvl="1" marL="460440" indent="-295200">
              <a:lnSpc>
                <a:spcPct val="110000"/>
              </a:lnSpc>
              <a:spcAft>
                <a:spcPts val="1687"/>
              </a:spcAft>
              <a:buClr>
                <a:srgbClr val="a2250c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800" spc="-1" strike="noStrike" u="sng">
                <a:solidFill>
                  <a:srgbClr val="a2250c"/>
                </a:solidFill>
                <a:uFillTx/>
                <a:latin typeface="Frutiger 55 Roman"/>
              </a:rPr>
              <a:t>Interim report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Frutiger 55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Assessment and optimisation of renewable support schemes in the European electricity market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60440" indent="-295200">
              <a:lnSpc>
                <a:spcPct val="110000"/>
              </a:lnSpc>
              <a:spcAft>
                <a:spcPts val="1687"/>
              </a:spcAft>
              <a:buClr>
                <a:srgbClr val="a2250c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800" spc="-1" strike="noStrike" u="sng">
                <a:solidFill>
                  <a:srgbClr val="a2250c"/>
                </a:solidFill>
                <a:uFillTx/>
                <a:latin typeface="Frutiger 55 Roman"/>
              </a:rPr>
              <a:t>Repor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Analysis of barriers for the development of electricity generation from renewable energy sources in the EU-25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60440" indent="-295200">
              <a:lnSpc>
                <a:spcPct val="110000"/>
              </a:lnSpc>
              <a:spcAft>
                <a:spcPts val="1687"/>
              </a:spcAft>
              <a:buClr>
                <a:srgbClr val="a2250c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800" spc="-1" strike="noStrike" u="sng">
                <a:solidFill>
                  <a:srgbClr val="a2250c"/>
                </a:solidFill>
                <a:uFillTx/>
                <a:latin typeface="Frutiger 55 Roman"/>
              </a:rPr>
              <a:t>Repor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Interactions with other policies and markets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60440" indent="-295200">
              <a:lnSpc>
                <a:spcPct val="110000"/>
              </a:lnSpc>
              <a:spcAft>
                <a:spcPts val="1687"/>
              </a:spcAft>
              <a:buClr>
                <a:srgbClr val="a2250c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800" spc="-1" strike="noStrike" u="sng">
                <a:solidFill>
                  <a:srgbClr val="a2250c"/>
                </a:solidFill>
                <a:uFillTx/>
                <a:latin typeface="Frutiger 55 Roman"/>
              </a:rPr>
              <a:t>Repor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Potentials and cost for renewable electricity in Europe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60440" indent="0">
              <a:lnSpc>
                <a:spcPct val="110000"/>
              </a:lnSpc>
              <a:spcBef>
                <a:spcPts val="1125"/>
              </a:spcBef>
              <a:spcAft>
                <a:spcPts val="1687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US" sz="1800" spc="-1" strike="noStrike">
                <a:solidFill>
                  <a:srgbClr val="0098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9800"/>
                </a:solidFill>
                <a:latin typeface="Frutiger 55 Roman"/>
              </a:rPr>
              <a:t> </a:t>
            </a:r>
            <a:r>
              <a:rPr b="0" i="1" lang="en-US" sz="1800" spc="-1" strike="noStrike">
                <a:solidFill>
                  <a:srgbClr val="009800"/>
                </a:solidFill>
                <a:latin typeface="Frutiger 55 Roman"/>
              </a:rPr>
              <a:t>All Documents are available at the project homepage: www.optres.fhg.de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Available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47760" y="1125360"/>
            <a:ext cx="83851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lvl="1" marL="495360" indent="0">
              <a:lnSpc>
                <a:spcPct val="110000"/>
              </a:lnSpc>
              <a:spcAft>
                <a:spcPts val="1687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800" spc="-1" strike="noStrike" u="sng">
                <a:solidFill>
                  <a:srgbClr val="a2250c"/>
                </a:solidFill>
                <a:uFillTx/>
                <a:latin typeface="Frutiger 55 Roman"/>
              </a:rPr>
              <a:t>Proceeded events: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-330120">
              <a:lnSpc>
                <a:spcPct val="110000"/>
              </a:lnSpc>
              <a:spcAft>
                <a:spcPts val="1500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12-Oct-2006, Lond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Thematic Workshop: "Renewable energies in the EU up to 2020 - Current markets, future scenarios and the role of project developers and investors"</a:t>
            </a:r>
            <a:endParaRPr b="0" lang="en-US" sz="16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-330120">
              <a:lnSpc>
                <a:spcPct val="110000"/>
              </a:lnSpc>
              <a:spcAft>
                <a:spcPts val="1500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13-Nov-2006, Vilniu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Dissemination Workshop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0">
              <a:lnSpc>
                <a:spcPct val="110000"/>
              </a:lnSpc>
              <a:spcAft>
                <a:spcPts val="1687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800" spc="-1" strike="noStrike" u="sng">
                <a:solidFill>
                  <a:srgbClr val="a2250c"/>
                </a:solidFill>
                <a:uFillTx/>
                <a:latin typeface="Frutiger 55 Roman"/>
              </a:rPr>
              <a:t>Forthcoming events: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-330120">
              <a:lnSpc>
                <a:spcPct val="110000"/>
              </a:lnSpc>
              <a:spcAft>
                <a:spcPts val="1500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05-Dec-2006, Brussel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FINAL CONFERENCE</a:t>
            </a:r>
            <a:endParaRPr b="0" lang="en-US" sz="16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-330120">
              <a:lnSpc>
                <a:spcPct val="110000"/>
              </a:lnSpc>
              <a:spcAft>
                <a:spcPts val="1500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12-Dec-2006, Copenhag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Thematic Workshop: "Renewable Electricity Production in the Internal Energy Market" </a:t>
            </a:r>
            <a:endParaRPr b="0" lang="en-US" sz="16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Events of the OPTRES-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06:01:41Z</dcterms:created>
  <dc:creator>wi</dc:creator>
  <dc:description/>
  <cp:keywords/>
  <dc:language>en-US</dc:language>
  <cp:lastModifiedBy>Held</cp:lastModifiedBy>
  <cp:lastPrinted>2004-01-12T11:04:47Z</cp:lastPrinted>
  <dcterms:modified xsi:type="dcterms:W3CDTF">2006-11-13T05:57:59Z</dcterms:modified>
  <cp:revision>263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3539257</vt:r8>
  </property>
  <property fmtid="{D5CDD505-2E9C-101B-9397-08002B2CF9AE}" pid="3" name="_AuthorEmail">
    <vt:lpwstr>Mario.Ragwitz@isi.fraunhofer.de</vt:lpwstr>
  </property>
  <property fmtid="{D5CDD505-2E9C-101B-9397-08002B2CF9AE}" pid="4" name="_AuthorEmailDisplayName">
    <vt:lpwstr>Ragwitz, Mario</vt:lpwstr>
  </property>
  <property fmtid="{D5CDD505-2E9C-101B-9397-08002B2CF9AE}" pid="5" name="_EmailSubject">
    <vt:lpwstr>Common dissemination workshop - 13/11/2006 Vilnius</vt:lpwstr>
  </property>
  <property fmtid="{D5CDD505-2E9C-101B-9397-08002B2CF9AE}" pid="6" name="_PreviousAdHocReviewCycleID">
    <vt:r8>1265222496</vt:r8>
  </property>
  <property fmtid="{D5CDD505-2E9C-101B-9397-08002B2CF9AE}" pid="7" name="_ReviewingToolsShownOnce">
    <vt:lpwstr/>
  </property>
</Properties>
</file>