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22.wmf" ContentType="image/x-wmf"/>
  <Override PartName="/ppt/media/image11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3.png" ContentType="image/png"/>
  <Override PartName="/ppt/media/image6.png" ContentType="image/png"/>
  <Override PartName="/ppt/media/image14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842472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440" y="3474360"/>
            <a:ext cx="842472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3560" y="152388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6440" y="347436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3560" y="347436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271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5120" y="1523880"/>
            <a:ext cx="271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3800" y="1523880"/>
            <a:ext cx="271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6440" y="3474360"/>
            <a:ext cx="271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5120" y="3474360"/>
            <a:ext cx="271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3800" y="3474360"/>
            <a:ext cx="271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06440" y="1523880"/>
            <a:ext cx="84247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84247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41112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3560" y="1523880"/>
            <a:ext cx="41112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44520" y="642960"/>
            <a:ext cx="842472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25"/>
              </a:spcAft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3560" y="1523880"/>
            <a:ext cx="41112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6440" y="347436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6440" y="1523880"/>
            <a:ext cx="84247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41112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3560" y="152388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23560" y="347436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3560" y="152388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06440" y="3474360"/>
            <a:ext cx="842472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842472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6440" y="3474360"/>
            <a:ext cx="842472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23560" y="152388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06440" y="347436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23560" y="347436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271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55120" y="1523880"/>
            <a:ext cx="271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03800" y="1523880"/>
            <a:ext cx="271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06440" y="3474360"/>
            <a:ext cx="271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55120" y="3474360"/>
            <a:ext cx="271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03800" y="3474360"/>
            <a:ext cx="271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84247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41112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3560" y="1523880"/>
            <a:ext cx="41112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44520" y="642960"/>
            <a:ext cx="842472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25"/>
              </a:spcAft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3560" y="1523880"/>
            <a:ext cx="41112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6440" y="347436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41112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3560" y="152388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3560" y="347436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440" y="152388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3560" y="1523880"/>
            <a:ext cx="41112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6440" y="3474360"/>
            <a:ext cx="842472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7068120" y="-40885920"/>
            <a:ext cx="82862640" cy="88666560"/>
          </a:xfrm>
          <a:prstGeom prst="rect">
            <a:avLst/>
          </a:prstGeom>
          <a:noFill/>
          <a:ln cap="sq"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4520" y="642960"/>
            <a:ext cx="842472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utiger 45 Light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06440" y="1523880"/>
            <a:ext cx="84247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indent="0">
              <a:spcAft>
                <a:spcPts val="1125"/>
              </a:spcAft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55 Roman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5360" indent="-330120">
              <a:spcAft>
                <a:spcPts val="1125"/>
              </a:spcAft>
              <a:buClr>
                <a:srgbClr val="ffffff"/>
              </a:buClr>
              <a:buFont typeface="Wingdings" charset="2"/>
              <a:buChar char=""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55 Roman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2" marL="992160" indent="-330120">
              <a:spcAft>
                <a:spcPts val="1125"/>
              </a:spcAft>
              <a:buClr>
                <a:srgbClr val="ffffff"/>
              </a:buClr>
              <a:buFont typeface="Frutiger 55 Roman"/>
              <a:buChar char="­"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55 Roman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3" marL="1487520" indent="-330120">
              <a:spcAft>
                <a:spcPts val="1125"/>
              </a:spcAft>
              <a:buClr>
                <a:srgbClr val="000000"/>
              </a:buClr>
              <a:buFont typeface="Frutiger 55 Roman"/>
              <a:buChar char="-"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55 Roman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4" marL="1984320" indent="-331560">
              <a:spcAft>
                <a:spcPts val="1125"/>
              </a:spcAft>
              <a:buClr>
                <a:srgbClr val="000000"/>
              </a:buClr>
              <a:buFont typeface="Frutiger 55 Roman"/>
              <a:buChar char="»"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55 Roman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5" marL="1984320" indent="-331560">
              <a:spcAft>
                <a:spcPts val="1125"/>
              </a:spcAft>
              <a:buClr>
                <a:srgbClr val="000000"/>
              </a:buClr>
              <a:buFont typeface="Frutiger 55 Roman"/>
              <a:buChar char="»"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55 Roman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6" marL="1984320" indent="-331560">
              <a:spcAft>
                <a:spcPts val="1125"/>
              </a:spcAft>
              <a:buClr>
                <a:srgbClr val="000000"/>
              </a:buClr>
              <a:buFont typeface="Frutiger 55 Roman"/>
              <a:buChar char="»"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55 Roman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add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7000" y="-9360"/>
            <a:ext cx="9144000" cy="761760"/>
          </a:xfrm>
          <a:prstGeom prst="rect">
            <a:avLst/>
          </a:prstGeom>
          <a:solidFill>
            <a:srgbClr val="a9e3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43880" y="6165720"/>
            <a:ext cx="1150920" cy="58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17520" y="6165720"/>
            <a:ext cx="511812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Frutiger 55 Roman"/>
              </a:rPr>
              <a:t>Dissemination Workshop of  OPTRES / Green-N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009800"/>
                </a:solidFill>
                <a:latin typeface="Frutiger 55 Roman"/>
              </a:rPr>
              <a:t>Vilnius,  November 13th 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47760" y="6093000"/>
            <a:ext cx="8448480" cy="0"/>
          </a:xfrm>
          <a:prstGeom prst="line">
            <a:avLst/>
          </a:prstGeom>
          <a:ln w="25560">
            <a:solidFill>
              <a:srgbClr val="2c86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143000"/>
            <a:ext cx="6096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37068120" y="-40885920"/>
            <a:ext cx="82862640" cy="88666560"/>
          </a:xfrm>
          <a:prstGeom prst="rect">
            <a:avLst/>
          </a:prstGeom>
          <a:noFill/>
          <a:ln cap="sq" w="0">
            <a:solidFill>
              <a:srgbClr val="fe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utiger 45 Light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76480" y="0"/>
            <a:ext cx="7067520" cy="5229000"/>
            <a:chOff x="2076480" y="0"/>
            <a:chExt cx="7067520" cy="522900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2076480" y="0"/>
              <a:ext cx="7067520" cy="142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2076480" y="1387800"/>
              <a:ext cx="7067520" cy="142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2076480" y="2707200"/>
              <a:ext cx="7067520" cy="13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5"/>
            <a:stretch/>
          </p:blipFill>
          <p:spPr>
            <a:xfrm>
              <a:off x="2076480" y="3946680"/>
              <a:ext cx="7067520" cy="128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0" y="0"/>
            <a:ext cx="2100240" cy="5229000"/>
            <a:chOff x="0" y="0"/>
            <a:chExt cx="2100240" cy="5229000"/>
          </a:xfrm>
        </p:grpSpPr>
        <p:pic>
          <p:nvPicPr>
            <p:cNvPr id="53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2100240" cy="14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7"/>
            <a:stretch/>
          </p:blipFill>
          <p:spPr>
            <a:xfrm>
              <a:off x="0" y="1374840"/>
              <a:ext cx="2100240" cy="14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8"/>
            <a:stretch/>
          </p:blipFill>
          <p:spPr>
            <a:xfrm>
              <a:off x="0" y="2721960"/>
              <a:ext cx="2100240" cy="13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9"/>
            <a:stretch/>
          </p:blipFill>
          <p:spPr>
            <a:xfrm>
              <a:off x="0" y="3939120"/>
              <a:ext cx="2100240" cy="12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284040" y="6165720"/>
            <a:ext cx="5079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Frutiger 55 Roman"/>
              </a:rPr>
              <a:t>Dissemination Workshop of  OPTRES / Green-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9800"/>
                </a:solidFill>
                <a:latin typeface="Frutiger 55 Roman"/>
              </a:rPr>
              <a:t>Vilnius,  November 13th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7589880" y="6170760"/>
            <a:ext cx="1206360" cy="609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7760" y="6093000"/>
            <a:ext cx="8448480" cy="0"/>
          </a:xfrm>
          <a:prstGeom prst="line">
            <a:avLst/>
          </a:prstGeom>
          <a:ln w="25560">
            <a:solidFill>
              <a:srgbClr val="2c86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1125"/>
              </a:spcAft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55 Roman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1" marL="165240" indent="0" algn="ctr">
              <a:spcAft>
                <a:spcPts val="1125"/>
              </a:spcAft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55 Roman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2" marL="662040" algn="ctr">
              <a:spcAft>
                <a:spcPts val="1125"/>
              </a:spcAft>
              <a:buClr>
                <a:srgbClr val="ffffff"/>
              </a:buClr>
              <a:buFont typeface="Frutiger 55 Roman"/>
              <a:buChar char="­"/>
              <a:tabLst>
                <a:tab algn="l" pos="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 55 Roman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3" marL="1157400" algn="ctr">
              <a:buClr>
                <a:srgbClr val="000000"/>
              </a:buClr>
              <a:buFont typeface="Frutiger 55 Roman"/>
              <a:buChar char="-"/>
              <a:tabLst>
                <a:tab algn="l" pos="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lvl="4" marL="1652760" algn="ctr">
              <a:lnSpc>
                <a:spcPts val="1823"/>
              </a:lnSpc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lvl="5" marL="1652760">
              <a:spcBef>
                <a:spcPts val="400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lvl="6" marL="1652760">
              <a:spcBef>
                <a:spcPts val="400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03200" y="1483920"/>
            <a:ext cx="694044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0680" bIns="40680" anchor="ctr">
            <a:noAutofit/>
          </a:bodyPr>
          <a:p>
            <a:pPr indent="0" algn="ctr">
              <a:lnSpc>
                <a:spcPct val="100000"/>
              </a:lnSpc>
              <a:spcAft>
                <a:spcPts val="2438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GB" sz="2600" spc="-1" strike="noStrike">
                <a:solidFill>
                  <a:srgbClr val="009800"/>
                </a:solidFill>
                <a:latin typeface="Frutiger 55 Roman"/>
              </a:rPr>
              <a:t>Best practices for the promotion of RES-E in EU-Member States</a:t>
            </a:r>
            <a:br>
              <a:rPr sz="2600"/>
            </a:br>
            <a:br>
              <a:rPr sz="2600"/>
            </a:br>
            <a:r>
              <a:rPr b="1" lang="en-GB" sz="2400" spc="-1" strike="noStrike">
                <a:solidFill>
                  <a:srgbClr val="009800"/>
                </a:solidFill>
                <a:latin typeface="Frutiger 55 Roman"/>
              </a:rPr>
              <a:t>- </a:t>
            </a:r>
            <a:r>
              <a:rPr b="1" lang="en-GB" sz="2000" spc="-1" strike="noStrike">
                <a:solidFill>
                  <a:srgbClr val="009800"/>
                </a:solidFill>
                <a:latin typeface="Frutiger 55 Roman"/>
              </a:rPr>
              <a:t>An evaluation of policy effectiveness and efficiency -</a:t>
            </a:r>
            <a:r>
              <a:rPr b="1" i="1" lang="en-GB" sz="2400" spc="-1" strike="noStrike">
                <a:solidFill>
                  <a:srgbClr val="009800"/>
                </a:solidFill>
                <a:latin typeface="Frutiger 55 Roman"/>
              </a:rPr>
              <a:t> </a:t>
            </a:r>
            <a:br>
              <a:rPr sz="2600"/>
            </a:br>
            <a:endParaRPr b="1" lang="en-US" sz="2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76480" y="3933360"/>
            <a:ext cx="69120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Aft>
                <a:spcPts val="1500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GB" sz="2400" spc="-1" strike="noStrike">
                <a:solidFill>
                  <a:srgbClr val="a2250c"/>
                </a:solidFill>
                <a:latin typeface="Frutiger 55 Roman"/>
              </a:rPr>
              <a:t>Anne Held, Mario Ragwitz</a:t>
            </a:r>
            <a:endParaRPr b="0" lang="en-US" sz="2400" spc="-1" strike="noStrike">
              <a:solidFill>
                <a:srgbClr val="ffffff"/>
              </a:solidFill>
              <a:latin typeface="Frutiger 55 Roman"/>
            </a:endParaRPr>
          </a:p>
          <a:p>
            <a:pPr indent="0" algn="ctr">
              <a:lnSpc>
                <a:spcPct val="60000"/>
              </a:lnSpc>
              <a:spcAft>
                <a:spcPts val="1250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GB" sz="2000" spc="-1" strike="noStrike">
                <a:solidFill>
                  <a:srgbClr val="a2250c"/>
                </a:solidFill>
                <a:latin typeface="Frutiger 55 Roman"/>
              </a:rPr>
              <a:t>Fraunhofer Institute Systems and Innovation Research</a:t>
            </a:r>
            <a:endParaRPr b="0" lang="en-US" sz="2000" spc="-1" strike="noStrike">
              <a:solidFill>
                <a:srgbClr val="ffffff"/>
              </a:solidFill>
              <a:latin typeface="Frutiger 55 Roman"/>
            </a:endParaRPr>
          </a:p>
          <a:p>
            <a:pPr indent="0" algn="ctr">
              <a:lnSpc>
                <a:spcPct val="60000"/>
              </a:lnSpc>
              <a:spcAft>
                <a:spcPts val="1250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GB" sz="2000" spc="-1" strike="noStrike">
                <a:solidFill>
                  <a:srgbClr val="a2250c"/>
                </a:solidFill>
                <a:latin typeface="Frutiger 55 Roman"/>
              </a:rPr>
              <a:t>(Fh-ISI)</a:t>
            </a:r>
            <a:endParaRPr b="0" lang="en-US" sz="2000" spc="-1" strike="noStrike">
              <a:solidFill>
                <a:srgbClr val="ffffff"/>
              </a:solidFill>
              <a:latin typeface="Frutiger 55 Roman"/>
            </a:endParaRPr>
          </a:p>
          <a:p>
            <a:pPr indent="0" algn="ctr">
              <a:lnSpc>
                <a:spcPct val="70000"/>
              </a:lnSpc>
              <a:spcAft>
                <a:spcPts val="1250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2000" spc="-1" strike="noStrike">
              <a:solidFill>
                <a:srgbClr val="ffffff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Frutiger 45 Light"/>
              </a:rPr>
              <a:t>Effectiveness for wind on-shore in the period 1998-2005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Frutiger 45 Light"/>
              </a:rPr>
              <a:t>    EU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3360" y="928800"/>
            <a:ext cx="728352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Frutiger 45 Light"/>
              </a:rPr>
              <a:t>Effectiveness in the sector biogas in the period 1998-2005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Frutiger 45 Light"/>
              </a:rPr>
              <a:t>    EU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3360" y="857160"/>
            <a:ext cx="728352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Frutiger 45 Light"/>
              </a:rPr>
              <a:t>Effectiveness in the sector biogas in the period 1998-2005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Frutiger 45 Light"/>
              </a:rPr>
              <a:t>    EU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52600" y="766800"/>
            <a:ext cx="74120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5520" y="1198440"/>
            <a:ext cx="8810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lvl="1" marL="495360" indent="-330120">
              <a:lnSpc>
                <a:spcPct val="110000"/>
              </a:lnSpc>
              <a:spcAft>
                <a:spcPts val="168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 55 Roman"/>
              </a:rPr>
              <a:t>Limited effectiveness of theoretically powerful instruments is experienced in a number of markets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2" marL="992160" indent="-330120">
              <a:lnSpc>
                <a:spcPct val="110000"/>
              </a:lnSpc>
              <a:spcAft>
                <a:spcPts val="1687"/>
              </a:spcAft>
              <a:buClr>
                <a:srgbClr val="000000"/>
              </a:buClr>
              <a:buFont typeface="Frutiger 55 Roman"/>
              <a:buChar char="•"/>
              <a:tabLst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 55 Roman"/>
              </a:rPr>
              <a:t>In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Frutiger 55 Roman"/>
              </a:rPr>
              <a:t>feed-in systems</a:t>
            </a:r>
            <a:r>
              <a:rPr b="0" lang="en-GB" sz="1800" spc="-1" strike="noStrike">
                <a:solidFill>
                  <a:srgbClr val="000000"/>
                </a:solidFill>
                <a:latin typeface="Frutiger 55 Roman"/>
              </a:rPr>
              <a:t> typically due to high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Frutiger 55 Roman"/>
              </a:rPr>
              <a:t>administrative and grid barriers</a:t>
            </a:r>
            <a:r>
              <a:rPr b="0" lang="en-GB" sz="1800" spc="-1" strike="noStrike">
                <a:solidFill>
                  <a:srgbClr val="000000"/>
                </a:solidFill>
                <a:latin typeface="Frutiger 55 Roman"/>
              </a:rPr>
              <a:t>, e.g. in France, Greece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2" marL="992160" indent="-330120">
              <a:lnSpc>
                <a:spcPct val="110000"/>
              </a:lnSpc>
              <a:spcAft>
                <a:spcPts val="1687"/>
              </a:spcAft>
              <a:buClr>
                <a:srgbClr val="000000"/>
              </a:buClr>
              <a:buFont typeface="Frutiger 55 Roman"/>
              <a:buChar char="•"/>
              <a:tabLst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 55 Roman"/>
              </a:rPr>
              <a:t>In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Frutiger 55 Roman"/>
              </a:rPr>
              <a:t>quota systems</a:t>
            </a:r>
            <a:r>
              <a:rPr b="0" lang="en-GB" sz="1800" spc="-1" strike="noStrike">
                <a:solidFill>
                  <a:srgbClr val="000000"/>
                </a:solidFill>
                <a:latin typeface="Frutiger 55 Roman"/>
              </a:rPr>
              <a:t> typically due to low penalty or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Frutiger 55 Roman"/>
              </a:rPr>
              <a:t>high risk level</a:t>
            </a:r>
            <a:r>
              <a:rPr b="0" lang="en-GB" sz="1800" spc="-1" strike="noStrike">
                <a:solidFill>
                  <a:srgbClr val="000000"/>
                </a:solidFill>
                <a:latin typeface="Frutiger 55 Roman"/>
              </a:rPr>
              <a:t> -&gt; measure: set sufficiently ambitious long term targets, increase penalty, introduce minimum tariff, e.g. Belgium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5360" indent="-330120">
              <a:lnSpc>
                <a:spcPct val="110000"/>
              </a:lnSpc>
              <a:spcAft>
                <a:spcPts val="168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 55 Roman"/>
              </a:rPr>
              <a:t>Only selected technologies are supported in some markets, e.g. in Finland (tax measure) and in most quota systems 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2" marL="992160" indent="-330120">
              <a:lnSpc>
                <a:spcPct val="110000"/>
              </a:lnSpc>
              <a:spcAft>
                <a:spcPts val="1687"/>
              </a:spcAft>
              <a:buClr>
                <a:srgbClr val="000000"/>
              </a:buClr>
              <a:buFont typeface="Frutiger 55 Roman"/>
              <a:buChar char="•"/>
              <a:tabLst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 55 Roman"/>
              </a:rPr>
              <a:t>Introduction of technology specification of green certificate, e.g. technology specific certification period in Italy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First conclusions on effectiveness of RES-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484280" y="1909800"/>
                <a:ext cx="61102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VARIABLE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FIX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FUEL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∧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∗</m:t>
                        </m:r>
                        <m:r>
                          <m:t xml:space="preserve">I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CRF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Support level and country specific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3880" y="1104840"/>
            <a:ext cx="811620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Frutiger 55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 55 Roman"/>
              </a:rPr>
              <a:t>Long run marginal costs 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of different technologies based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Frutiger 55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Frutiger 55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Frutiger 55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Frutiger 55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Frutiger 55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Frutiger 55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Frutiger 55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Frutiger 55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Frutiger 55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 55 Roman"/>
              </a:rPr>
              <a:t>Support level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in different countries – normalised to a uniform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duration of the instrument given by the life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042920" y="3106800"/>
                <a:ext cx="31687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R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∗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z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PT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z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PT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4815360" y="2997360"/>
            <a:ext cx="380772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Frutiger 55 Roman"/>
              </a:rPr>
              <a:t>PT: payback time  - 15 yea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Frutiger 55 Roman"/>
              </a:rPr>
              <a:t>Z: interest rate - 6.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Frutiger 55 Roman"/>
              </a:rPr>
              <a:t>H: Full load hou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Frutiger 45 Light"/>
              </a:rPr>
              <a:t>Support level vs. costs for wind on-shore in the EU (03 / 0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2160" y="1486080"/>
            <a:ext cx="4863960" cy="4103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700520" y="1517760"/>
            <a:ext cx="422280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Frutiger 45 Light"/>
              </a:rPr>
              <a:t>Support level vs. costs for biogas in the EU (03 / 0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700520" y="1486080"/>
            <a:ext cx="4264200" cy="4152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4000" y="1465200"/>
            <a:ext cx="491184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55520" y="980640"/>
            <a:ext cx="881064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lvl="1" marL="179280" indent="0">
              <a:spcBef>
                <a:spcPts val="601"/>
              </a:spcBef>
              <a:spcAft>
                <a:spcPts val="1250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Analysis of the </a:t>
            </a:r>
            <a:r>
              <a:rPr b="1" lang="en-GB" sz="2000" spc="-1" strike="noStrike">
                <a:solidFill>
                  <a:srgbClr val="000000"/>
                </a:solidFill>
                <a:latin typeface="Frutiger 55 Roman"/>
              </a:rPr>
              <a:t>direct support for wind onshore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reflecting further on: </a:t>
            </a:r>
            <a:endParaRPr b="0" lang="en-US" sz="2000" spc="-1" strike="noStrike">
              <a:solidFill>
                <a:srgbClr val="ffffff"/>
              </a:solidFill>
              <a:latin typeface="Frutiger 55 Roman"/>
            </a:endParaRPr>
          </a:p>
          <a:p>
            <a:pPr lvl="1" marL="179280" indent="-14040">
              <a:spcBef>
                <a:spcPts val="601"/>
              </a:spcBef>
              <a:spcAft>
                <a:spcPts val="1250"/>
              </a:spcAft>
              <a:buClr>
                <a:srgbClr val="000000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the duration of support </a:t>
            </a:r>
            <a:endParaRPr b="0" lang="en-US" sz="2000" spc="-1" strike="noStrike">
              <a:solidFill>
                <a:srgbClr val="ffffff"/>
              </a:solidFill>
              <a:latin typeface="Frutiger 55 Roman"/>
            </a:endParaRPr>
          </a:p>
          <a:p>
            <a:pPr lvl="1" marL="179280" indent="-14040">
              <a:spcBef>
                <a:spcPts val="601"/>
              </a:spcBef>
              <a:spcAft>
                <a:spcPts val="1250"/>
              </a:spcAft>
              <a:buClr>
                <a:srgbClr val="000000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country specific cost-resource conditions</a:t>
            </a:r>
            <a:endParaRPr b="0" lang="en-US" sz="2000" spc="-1" strike="noStrike">
              <a:solidFill>
                <a:srgbClr val="ffffff"/>
              </a:solidFill>
              <a:latin typeface="Frutiger 55 Roman"/>
            </a:endParaRPr>
          </a:p>
          <a:p>
            <a:pPr lvl="1" marL="179280" indent="-14040">
              <a:spcBef>
                <a:spcPts val="601"/>
              </a:spcBef>
              <a:spcAft>
                <a:spcPts val="1250"/>
              </a:spcAft>
              <a:buClr>
                <a:srgbClr val="000000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the interest rate in different countries</a:t>
            </a:r>
            <a:endParaRPr b="0" lang="en-US" sz="2000" spc="-1" strike="noStrike">
              <a:solidFill>
                <a:srgbClr val="ffffff"/>
              </a:solidFill>
              <a:latin typeface="Frutiger 55 Roman"/>
            </a:endParaRPr>
          </a:p>
          <a:p>
            <a:pPr lvl="1" marL="179280" indent="0">
              <a:spcBef>
                <a:spcPts val="601"/>
              </a:spcBef>
              <a:spcAft>
                <a:spcPts val="1250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These issues are considered by the annuity if an investment:</a:t>
            </a:r>
            <a:endParaRPr b="0" lang="en-US" sz="20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i="1" lang="en-GB" sz="2200" spc="-1" strike="noStrike">
                <a:solidFill>
                  <a:srgbClr val="000000"/>
                </a:solidFill>
                <a:latin typeface="Frutiger 45 Light"/>
              </a:rPr>
              <a:t>The investor's perspective of RES-E support </a:t>
            </a:r>
            <a:br>
              <a:rPr sz="2200"/>
            </a:br>
            <a:r>
              <a:rPr b="1" i="1" lang="en-GB" sz="2200" spc="-1" strike="noStrike">
                <a:solidFill>
                  <a:srgbClr val="000000"/>
                </a:solidFill>
                <a:latin typeface="Frutiger 45 Light"/>
              </a:rPr>
              <a:t>   – Calculating the average annual prof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8960" y="5219640"/>
            <a:ext cx="669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A= annuity; i=interest rate; t=year; n=technical lifeti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619280" y="3780000"/>
                <a:ext cx="576108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∗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ncom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enditur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4760" y="1228680"/>
            <a:ext cx="8180280" cy="4505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14616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Frutiger 45 Light"/>
              </a:rPr>
              <a:t>   </a:t>
            </a:r>
            <a:r>
              <a:rPr b="1" i="1" lang="en-GB" sz="2400" spc="-1" strike="noStrike">
                <a:solidFill>
                  <a:srgbClr val="000000"/>
                </a:solidFill>
                <a:latin typeface="Frutiger 45 Light"/>
              </a:rPr>
              <a:t>Correlating the average annual profit with the effectiveness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Frutiger 45 Light"/>
              </a:rPr>
              <a:t>   indicator – Example of wind onshore in 2004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92560" y="1916280"/>
            <a:ext cx="320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92560" y="1916280"/>
            <a:ext cx="320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43440" y="1125360"/>
            <a:ext cx="3132360" cy="184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9f7d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d0e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37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rutiger 55 Roman"/>
              </a:rPr>
              <a:t>Based on country specific wind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Frutiger 55 Roman"/>
              </a:rPr>
              <a:t>  cond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37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rutiger 55 Roman"/>
              </a:rPr>
              <a:t>Lifetime of certificates as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Frutiger 55 Roman"/>
              </a:rPr>
              <a:t>  implemented in the system, i.e. 8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Frutiger 55 Roman"/>
              </a:rPr>
              <a:t>  years in Italy, Plant LT in Belg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37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rutiger 55 Roman"/>
              </a:rPr>
              <a:t>For certificate systems the 2004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Frutiger 55 Roman"/>
              </a:rPr>
              <a:t>  certificate price was extrapola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627200" y="2133360"/>
            <a:ext cx="4024440" cy="1725480"/>
          </a:xfrm>
          <a:prstGeom prst="line">
            <a:avLst/>
          </a:prstGeom>
          <a:ln w="25560">
            <a:solidFill>
              <a:srgbClr val="0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55160" y="1486080"/>
            <a:ext cx="87044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 fontScale="96000"/>
          </a:bodyPr>
          <a:p>
            <a:pPr lvl="1" marL="475200" indent="-316800">
              <a:lnSpc>
                <a:spcPct val="110000"/>
              </a:lnSpc>
              <a:spcAft>
                <a:spcPts val="1687"/>
              </a:spcAft>
              <a:buClr>
                <a:srgbClr val="000000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Not the expected profit but the potential risk determines the effectiveness!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75200" indent="-316800">
              <a:lnSpc>
                <a:spcPct val="110000"/>
              </a:lnSpc>
              <a:spcAft>
                <a:spcPts val="1687"/>
              </a:spcAft>
              <a:buClr>
                <a:srgbClr val="000000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 55 Roman"/>
              </a:rPr>
              <a:t>The effectiveness of various RES-E support schemes largely depends on the maturity and the credibility of the system. 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75200" indent="-316800">
              <a:lnSpc>
                <a:spcPct val="110000"/>
              </a:lnSpc>
              <a:spcAft>
                <a:spcPts val="1687"/>
              </a:spcAft>
              <a:buClr>
                <a:srgbClr val="000000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 55 Roman"/>
              </a:rPr>
              <a:t>A stable planning is important to create a sound investment climate and to lower social costs as a result of lower risk premium. 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75200" indent="-316800">
              <a:lnSpc>
                <a:spcPct val="110000"/>
              </a:lnSpc>
              <a:spcAft>
                <a:spcPts val="1687"/>
              </a:spcAft>
              <a:buClr>
                <a:srgbClr val="000000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 55 Roman"/>
              </a:rPr>
              <a:t>Administrative barriers can have a significant impact on the effectiveness of an instrument and hamper the effectiveness of generally very powerful policy schemes.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75200" indent="-316800">
              <a:lnSpc>
                <a:spcPct val="110000"/>
              </a:lnSpc>
              <a:spcAft>
                <a:spcPts val="1687"/>
              </a:spcAft>
              <a:buClr>
                <a:srgbClr val="000000"/>
              </a:buClr>
              <a:buFont typeface="Frutiger 55 Roman"/>
              <a:buChar char="•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 55 Roman"/>
              </a:rPr>
              <a:t>Effective instruments for RES-E support are frequently economically efficient as well!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47400" y="1628640"/>
            <a:ext cx="851220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lvl="1" marL="495360" indent="-330120">
              <a:lnSpc>
                <a:spcPct val="120000"/>
              </a:lnSpc>
              <a:spcAft>
                <a:spcPts val="1500"/>
              </a:spcAft>
              <a:buClr>
                <a:srgbClr val="a2250c"/>
              </a:buClr>
              <a:buFont typeface="Wingdings" charset="2"/>
              <a:buChar char="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GB" sz="2400" spc="-1" strike="noStrike">
                <a:solidFill>
                  <a:srgbClr val="a2250c"/>
                </a:solidFill>
                <a:latin typeface="Frutiger 55 Roman"/>
              </a:rPr>
              <a:t>Key questions</a:t>
            </a:r>
            <a:endParaRPr b="0" lang="en-US" sz="24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5360" indent="-330120">
              <a:lnSpc>
                <a:spcPct val="120000"/>
              </a:lnSpc>
              <a:spcAft>
                <a:spcPts val="1500"/>
              </a:spcAft>
              <a:buClr>
                <a:srgbClr val="a2250c"/>
              </a:buClr>
              <a:buFont typeface="Wingdings" charset="2"/>
              <a:buChar char="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GB" sz="2400" spc="-1" strike="noStrike">
                <a:solidFill>
                  <a:srgbClr val="a2250c"/>
                </a:solidFill>
                <a:latin typeface="Frutiger 55 Roman"/>
              </a:rPr>
              <a:t>Policy background</a:t>
            </a:r>
            <a:endParaRPr b="0" lang="en-US" sz="24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5360" indent="-330120">
              <a:lnSpc>
                <a:spcPct val="120000"/>
              </a:lnSpc>
              <a:spcAft>
                <a:spcPts val="1500"/>
              </a:spcAft>
              <a:buClr>
                <a:srgbClr val="a2250c"/>
              </a:buClr>
              <a:buFont typeface="Wingdings" charset="2"/>
              <a:buChar char="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GB" sz="2400" spc="-1" strike="noStrike">
                <a:solidFill>
                  <a:srgbClr val="a2250c"/>
                </a:solidFill>
                <a:latin typeface="Frutiger 55 Roman"/>
              </a:rPr>
              <a:t>Effectiveness and efficiency of RES-E support</a:t>
            </a:r>
            <a:endParaRPr b="0" lang="en-US" sz="24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5360" indent="-330120">
              <a:lnSpc>
                <a:spcPct val="120000"/>
              </a:lnSpc>
              <a:spcAft>
                <a:spcPts val="1500"/>
              </a:spcAft>
              <a:buClr>
                <a:srgbClr val="a2250c"/>
              </a:buClr>
              <a:buFont typeface="Wingdings" charset="2"/>
              <a:buChar char="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GB" sz="2400" spc="-1" strike="noStrike">
                <a:solidFill>
                  <a:srgbClr val="a2250c"/>
                </a:solidFill>
                <a:latin typeface="Frutiger 55 Roman"/>
              </a:rPr>
              <a:t>Conclusions</a:t>
            </a:r>
            <a:endParaRPr b="0" lang="en-US" sz="24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5360" indent="-330120">
              <a:lnSpc>
                <a:spcPct val="120000"/>
              </a:lnSpc>
              <a:spcAft>
                <a:spcPts val="1500"/>
              </a:spcAft>
              <a:buClr>
                <a:srgbClr val="a2250c"/>
              </a:buClr>
              <a:buFont typeface="Wingdings" charset="2"/>
              <a:buChar char="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GB" sz="2400" spc="-1" strike="noStrike">
                <a:solidFill>
                  <a:srgbClr val="a2250c"/>
                </a:solidFill>
                <a:latin typeface="Frutiger 55 Roman"/>
              </a:rPr>
              <a:t>Future design options for RES-E support</a:t>
            </a:r>
            <a:endParaRPr b="0" lang="en-US" sz="24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55160" y="980640"/>
            <a:ext cx="8859960" cy="51865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lvl="1" marL="446040" indent="0">
              <a:spcAft>
                <a:spcPts val="1250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US" sz="2000" spc="-1" strike="noStrike">
                <a:solidFill>
                  <a:srgbClr val="a2250c"/>
                </a:solidFill>
                <a:latin typeface="Frutiger 55 Roman"/>
              </a:rPr>
              <a:t>Ensure effectiveness, reduce risks to investors, minimise cost for consumers</a:t>
            </a:r>
            <a:endParaRPr b="0" lang="en-US" sz="20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46040" indent="-266760">
              <a:lnSpc>
                <a:spcPct val="110000"/>
              </a:lnSpc>
              <a:spcAft>
                <a:spcPts val="18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Set long term, sufficiently ambitious but realistic targets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46040" indent="-266760">
              <a:lnSpc>
                <a:spcPct val="110000"/>
              </a:lnSpc>
              <a:spcAft>
                <a:spcPts val="168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Policy stability, no stop and go policy!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46040" indent="-266760">
              <a:lnSpc>
                <a:spcPct val="110000"/>
              </a:lnSpc>
              <a:spcAft>
                <a:spcPts val="168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Existing capacities and new capacities should not be mixed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46040" indent="-266760">
              <a:lnSpc>
                <a:spcPct val="110000"/>
              </a:lnSpc>
              <a:spcAft>
                <a:spcPts val="168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Duration of support for new capacities should be restricted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46040" indent="-266760">
              <a:lnSpc>
                <a:spcPct val="110000"/>
              </a:lnSpc>
              <a:spcAft>
                <a:spcPts val="168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Remove non economic barriers, administrative, legal, grid,… 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46040" indent="-266760">
              <a:lnSpc>
                <a:spcPct val="110000"/>
              </a:lnSpc>
              <a:spcAft>
                <a:spcPts val="168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Compatibility with other policies (climate policy, agricultural policy, demand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 side measures);</a:t>
            </a:r>
            <a:r>
              <a:rPr b="0" lang="en-GB" sz="18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   </a:t>
            </a: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Way forward – general design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55160" y="1196640"/>
            <a:ext cx="885996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 fontScale="91000"/>
          </a:bodyPr>
          <a:p>
            <a:pPr lvl="1" marL="450720" indent="-300240">
              <a:lnSpc>
                <a:spcPct val="110000"/>
              </a:lnSpc>
              <a:spcAft>
                <a:spcPts val="17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5 Roman"/>
              </a:rPr>
              <a:t>Set correct penalty (higher than marginal production costs at quota level)</a:t>
            </a:r>
            <a:endParaRPr b="0" lang="en-US" sz="19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50720" indent="-300240">
              <a:lnSpc>
                <a:spcPct val="110000"/>
              </a:lnSpc>
              <a:spcAft>
                <a:spcPts val="17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55 Roman"/>
              </a:rPr>
              <a:t>Guaranteed minimum tariff should be implemented in immature markets</a:t>
            </a:r>
            <a:endParaRPr b="0" lang="en-US" sz="19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50720" indent="-300240">
              <a:lnSpc>
                <a:spcPct val="110000"/>
              </a:lnSpc>
              <a:spcAft>
                <a:spcPts val="17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rutiger 55 Roman"/>
              </a:rPr>
              <a:t>Ensure a sufficient market size in order to guarantee liquidity and to increase competition (try to form an international system)</a:t>
            </a:r>
            <a:endParaRPr b="0" lang="en-US" sz="19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50720" indent="-300240">
              <a:lnSpc>
                <a:spcPct val="110000"/>
              </a:lnSpc>
              <a:spcAft>
                <a:spcPts val="17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5 Roman"/>
              </a:rPr>
              <a:t>In case of an ambitious quota, costs for society (windfall profits) can be reduced through:</a:t>
            </a:r>
            <a:endParaRPr b="0" lang="en-US" sz="1900" spc="-1" strike="noStrike">
              <a:solidFill>
                <a:srgbClr val="ffffff"/>
              </a:solidFill>
              <a:latin typeface="Frutiger 55 Roman"/>
            </a:endParaRPr>
          </a:p>
          <a:p>
            <a:pPr lvl="2" marL="902520" indent="-300240">
              <a:lnSpc>
                <a:spcPct val="110000"/>
              </a:lnSpc>
              <a:spcAft>
                <a:spcPts val="1774"/>
              </a:spcAft>
              <a:buClr>
                <a:srgbClr val="000000"/>
              </a:buClr>
              <a:buFont typeface="Frutiger 55 Roman"/>
              <a:buChar char="•"/>
              <a:tabLst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5 Roman"/>
              </a:rPr>
              <a:t>additional technology specific support, e.g. tax relief, investment incentives, soft loan (this can be a problem in international systems)</a:t>
            </a:r>
            <a:endParaRPr b="0" lang="en-US" sz="1900" spc="-1" strike="noStrike">
              <a:solidFill>
                <a:srgbClr val="ffffff"/>
              </a:solidFill>
              <a:latin typeface="Frutiger 55 Roman"/>
            </a:endParaRPr>
          </a:p>
          <a:p>
            <a:pPr lvl="2" marL="902520" indent="-300240">
              <a:lnSpc>
                <a:spcPct val="110000"/>
              </a:lnSpc>
              <a:spcAft>
                <a:spcPts val="1774"/>
              </a:spcAft>
              <a:buClr>
                <a:srgbClr val="000000"/>
              </a:buClr>
              <a:buFont typeface="Frutiger 55 Roman"/>
              <a:buChar char="•"/>
              <a:tabLst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5 Roman"/>
              </a:rPr>
              <a:t>or by technology dependent length of certification period (e.g. 8 years wind onshore, 12 years wind offshore)</a:t>
            </a:r>
            <a:endParaRPr b="0" lang="en-US" sz="19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50720" indent="0">
              <a:spcAft>
                <a:spcPts val="1188"/>
              </a:spcAft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19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   </a:t>
            </a: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Way forward – design criteria quota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55160" y="1341000"/>
            <a:ext cx="88599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lvl="1" marL="495360" indent="-330120">
              <a:lnSpc>
                <a:spcPct val="120000"/>
              </a:lnSpc>
              <a:spcAft>
                <a:spcPts val="18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Use technology specific tariffs</a:t>
            </a:r>
            <a:endParaRPr b="0" lang="en-US" sz="20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5360" indent="-330120">
              <a:lnSpc>
                <a:spcPct val="120000"/>
              </a:lnSpc>
              <a:spcAft>
                <a:spcPts val="18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Apply a stepped tariff scheme (where appropriate)</a:t>
            </a:r>
            <a:endParaRPr b="0" lang="en-US" sz="20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5360" indent="-330120">
              <a:lnSpc>
                <a:spcPct val="120000"/>
              </a:lnSpc>
              <a:spcAft>
                <a:spcPts val="18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Tariffs should decrease over time for new installations in order to account for technology learning </a:t>
            </a:r>
            <a:endParaRPr b="0" lang="en-US" sz="20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5360" indent="-330120">
              <a:lnSpc>
                <a:spcPct val="120000"/>
              </a:lnSpc>
              <a:spcAft>
                <a:spcPts val="18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Options to participate in liberalised power markets could facilitate the integration into the market</a:t>
            </a:r>
            <a:endParaRPr b="0" lang="en-US" sz="20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5360" indent="-330120">
              <a:lnSpc>
                <a:spcPct val="120000"/>
              </a:lnSpc>
              <a:spcAft>
                <a:spcPts val="18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Implement a forecast obligation in order facilitate the integration of  electricity using fluctuating RES into the grid</a:t>
            </a:r>
            <a:endParaRPr b="0" lang="en-US" sz="20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5360" indent="0">
              <a:lnSpc>
                <a:spcPct val="120000"/>
              </a:lnSpc>
              <a:spcAft>
                <a:spcPts val="1874"/>
              </a:spcAft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20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5360" indent="0">
              <a:lnSpc>
                <a:spcPct val="120000"/>
              </a:lnSpc>
              <a:spcAft>
                <a:spcPts val="1874"/>
              </a:spcAft>
              <a:buNone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20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   </a:t>
            </a: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Way forward – design criteria feed-i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0" t="0" r="0" b="4725"/>
          <a:stretch/>
        </p:blipFill>
        <p:spPr>
          <a:xfrm>
            <a:off x="0" y="2637000"/>
            <a:ext cx="9144000" cy="4252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rcRect l="0" t="0" r="0" b="63002"/>
          <a:stretch/>
        </p:blipFill>
        <p:spPr>
          <a:xfrm>
            <a:off x="0" y="0"/>
            <a:ext cx="9118440" cy="2637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-7920" y="1052640"/>
            <a:ext cx="9171000" cy="5805360"/>
          </a:xfrm>
          <a:prstGeom prst="rect">
            <a:avLst/>
          </a:prstGeom>
          <a:gradFill rotWithShape="0">
            <a:gsLst>
              <a:gs pos="0">
                <a:srgbClr val="ffffeb"/>
              </a:gs>
              <a:gs pos="100000">
                <a:srgbClr val="fffff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66320" cy="11253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422520" y="333360"/>
            <a:ext cx="1509840" cy="679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7760" y="838080"/>
            <a:ext cx="87804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600" bIns="39600" anchor="t">
            <a:normAutofit fontScale="48000"/>
          </a:bodyPr>
          <a:p>
            <a:pPr lvl="1" marL="237600" indent="-158400">
              <a:lnSpc>
                <a:spcPct val="100000"/>
              </a:lnSpc>
              <a:spcBef>
                <a:spcPts val="601"/>
              </a:spcBef>
              <a:spcAft>
                <a:spcPts val="1250"/>
              </a:spcAft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7600" indent="-158400" algn="ctr">
              <a:lnSpc>
                <a:spcPct val="120000"/>
              </a:lnSpc>
              <a:spcBef>
                <a:spcPts val="601"/>
              </a:spcBef>
              <a:spcAft>
                <a:spcPts val="2251"/>
              </a:spcAft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237600" indent="-158400" algn="ctr">
              <a:lnSpc>
                <a:spcPct val="120000"/>
              </a:lnSpc>
              <a:spcBef>
                <a:spcPts val="601"/>
              </a:spcBef>
              <a:spcAft>
                <a:spcPts val="2251"/>
              </a:spcAft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GB" sz="3600" spc="-1" strike="noStrike">
                <a:solidFill>
                  <a:srgbClr val="009800"/>
                </a:solidFill>
                <a:latin typeface="Frutiger 55 Roman"/>
              </a:rPr>
              <a:t>Thank you for your attention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237600" indent="-158400" algn="ctr">
              <a:lnSpc>
                <a:spcPct val="120000"/>
              </a:lnSpc>
              <a:spcAft>
                <a:spcPts val="2251"/>
              </a:spcAft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03560" y="3500280"/>
            <a:ext cx="52480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2250c"/>
                </a:solidFill>
                <a:latin typeface="Frutiger 55 Roman"/>
              </a:rPr>
              <a:t>Anne Held, Mario Ragwit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2250c"/>
                </a:solidFill>
                <a:latin typeface="Frutiger 55 Roman"/>
              </a:rPr>
              <a:t>anne.held@isi.fhg.de; mario.ragwitz@isi.fhg.d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47400" y="1628640"/>
            <a:ext cx="876780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/>
          </a:bodyPr>
          <a:p>
            <a:pPr lvl="1" marL="495360" indent="-330120">
              <a:lnSpc>
                <a:spcPct val="120000"/>
              </a:lnSpc>
              <a:spcAft>
                <a:spcPts val="14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Frutiger 55 Roman"/>
              </a:rPr>
              <a:t>Which policies exist in the EU Member States and which countries are on track with the targets of the RES-E Directive?</a:t>
            </a:r>
            <a:br>
              <a:rPr sz="2300"/>
            </a:br>
            <a:r>
              <a:rPr b="0" lang="en-GB" sz="23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5360" indent="-330120">
              <a:lnSpc>
                <a:spcPct val="120000"/>
              </a:lnSpc>
              <a:spcAft>
                <a:spcPts val="14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Frutiger 55 Roman"/>
              </a:rPr>
              <a:t>How effective did different policies promote RES-E?</a:t>
            </a:r>
            <a:br>
              <a:rPr sz="2300"/>
            </a:br>
            <a:r>
              <a:rPr b="0" lang="en-GB" sz="23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95360" indent="-330120">
              <a:lnSpc>
                <a:spcPct val="120000"/>
              </a:lnSpc>
              <a:spcAft>
                <a:spcPts val="14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Frutiger 55 Roman"/>
              </a:rPr>
              <a:t>How efficient did different policies promote RES-E?</a:t>
            </a:r>
            <a:endParaRPr b="0" lang="en-US" sz="23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Key questions to be add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5520" y="837720"/>
            <a:ext cx="88106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 fontScale="94000"/>
          </a:bodyPr>
          <a:p>
            <a:pPr lvl="1" marL="465480" indent="0">
              <a:lnSpc>
                <a:spcPct val="90000"/>
              </a:lnSpc>
              <a:spcBef>
                <a:spcPts val="601"/>
              </a:spcBef>
              <a:spcAft>
                <a:spcPts val="1250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20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65480" indent="0" algn="ctr">
              <a:lnSpc>
                <a:spcPct val="12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GB" sz="3600" spc="-1" strike="noStrike">
                <a:solidFill>
                  <a:srgbClr val="a2250c"/>
                </a:solidFill>
                <a:latin typeface="Frutiger 55 Roman"/>
              </a:rPr>
              <a:t>Clear majority of EU Member States uses feed-in tariffs as main instrument</a:t>
            </a:r>
            <a:endParaRPr b="0" lang="en-US" sz="36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65480" indent="0" algn="ctr">
              <a:lnSpc>
                <a:spcPct val="12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36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65480" indent="0" algn="ctr">
              <a:lnSpc>
                <a:spcPct val="12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GB" sz="3600" spc="-1" strike="noStrike">
                <a:solidFill>
                  <a:srgbClr val="a2250c"/>
                </a:solidFill>
                <a:latin typeface="Frutiger 55 Roman"/>
              </a:rPr>
              <a:t> </a:t>
            </a:r>
            <a:r>
              <a:rPr b="1" lang="en-GB" sz="3600" spc="-1" strike="noStrike">
                <a:solidFill>
                  <a:srgbClr val="a2250c"/>
                </a:solidFill>
                <a:latin typeface="Frutiger 55 Roman"/>
              </a:rPr>
              <a:t>Five countries have introduced quota systems based on TGCs </a:t>
            </a:r>
            <a:endParaRPr b="0" lang="en-US" sz="36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00" y="44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   </a:t>
            </a: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Policy 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4608360" cy="5121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524640" y="1413000"/>
            <a:ext cx="1344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eed-in Tari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24640" y="2852640"/>
            <a:ext cx="1568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24640" y="1989000"/>
            <a:ext cx="15685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uota obligation / T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24640" y="3429000"/>
            <a:ext cx="15685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x incentives / Investment gr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24640" y="4302000"/>
            <a:ext cx="1517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hange of support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6120" y="4508640"/>
            <a:ext cx="128520" cy="144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75400" y="5229360"/>
            <a:ext cx="1517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aptation of support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96120" y="5373720"/>
            <a:ext cx="127080" cy="13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67320" y="1484280"/>
            <a:ext cx="160560" cy="181080"/>
          </a:xfrm>
          <a:prstGeom prst="rect">
            <a:avLst/>
          </a:prstGeom>
          <a:solidFill>
            <a:srgbClr val="666699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6120" y="3645000"/>
            <a:ext cx="152280" cy="18072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80280" y="2924280"/>
            <a:ext cx="168120" cy="190440"/>
          </a:xfrm>
          <a:prstGeom prst="rect">
            <a:avLst/>
          </a:prstGeom>
          <a:solidFill>
            <a:srgbClr val="b7e7b7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75240" y="2170080"/>
            <a:ext cx="160560" cy="181080"/>
          </a:xfrm>
          <a:prstGeom prst="rect">
            <a:avLst/>
          </a:prstGeom>
          <a:solidFill>
            <a:srgbClr val="8000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Frutiger 45 Light"/>
              </a:rPr>
              <a:t>   </a:t>
            </a:r>
            <a:r>
              <a:rPr b="1" i="1" lang="en-GB" sz="2400" spc="-1" strike="noStrike">
                <a:solidFill>
                  <a:srgbClr val="000000"/>
                </a:solidFill>
                <a:latin typeface="Frutiger 45 Light"/>
              </a:rPr>
              <a:t>Evolution of support strategies for wind onshore in the EU-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636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Frutiger 45 Light"/>
              </a:rPr>
              <a:t>Progress towards the RES-E targets for the EU-25</a:t>
            </a:r>
            <a:r>
              <a:rPr b="1" lang="en-US" sz="2800" spc="-1" strike="noStrike">
                <a:solidFill>
                  <a:srgbClr val="ffffff"/>
                </a:solidFill>
                <a:latin typeface="Frutiger 45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95240" y="1109520"/>
            <a:ext cx="672156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55520" y="838080"/>
            <a:ext cx="881064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39600" bIns="39600" anchor="t">
            <a:normAutofit fontScale="96000"/>
          </a:bodyPr>
          <a:p>
            <a:pPr lvl="1" marL="47520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24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75200" indent="0" algn="ctr"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GB" sz="3600" spc="-1" strike="noStrike">
                <a:solidFill>
                  <a:srgbClr val="a2250c"/>
                </a:solidFill>
                <a:latin typeface="Frutiger 55 Roman"/>
              </a:rPr>
              <a:t>High level of effectiveness can be found in a limited number of markets</a:t>
            </a:r>
            <a:endParaRPr b="0" lang="en-US" sz="36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75200" indent="0" algn="ctr"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3600" spc="-1" strike="noStrike">
              <a:solidFill>
                <a:srgbClr val="ffffff"/>
              </a:solidFill>
              <a:latin typeface="Frutiger 55 Roman"/>
            </a:endParaRPr>
          </a:p>
          <a:p>
            <a:pPr lvl="1" marL="475200" indent="0" algn="ctr"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GB" sz="3600" spc="-1" strike="noStrike">
                <a:solidFill>
                  <a:srgbClr val="a2250c"/>
                </a:solidFill>
                <a:latin typeface="Frutiger 55 Roman"/>
              </a:rPr>
              <a:t>Technology specific effectiveness depends on the implemented support scheme</a:t>
            </a:r>
            <a:endParaRPr b="0" lang="en-US" sz="3600" spc="-1" strike="noStrike">
              <a:solidFill>
                <a:srgbClr val="ffffff"/>
              </a:solidFill>
              <a:latin typeface="Frutiger 55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36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Frutiger 45 Light"/>
              </a:rPr>
              <a:t>Effectiveness and efficiency of RES-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Measuring the effectiveness of RES-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1432080"/>
            <a:ext cx="84009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Aft>
                <a:spcPts val="1874"/>
              </a:spcAft>
              <a:buClr>
                <a:srgbClr val="000000"/>
              </a:buClr>
              <a:buFont typeface="Frutiger 55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rutiger 55 Roman"/>
              </a:rPr>
              <a:t>Relative or absolute growth rates</a:t>
            </a: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 are typically used to demonstrate the achievements of countries, however both measures are 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Aft>
                <a:spcPts val="1874"/>
              </a:spcAft>
              <a:buClr>
                <a:srgbClr val="000000"/>
              </a:buClr>
              <a:buFont typeface="Frutiger 55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utiger 55 Roman"/>
              </a:rPr>
              <a:t>Better measure to judge the performance is the </a:t>
            </a:r>
            <a:r>
              <a:rPr b="1" lang="en-GB" sz="2000" spc="-1" strike="noStrike">
                <a:solidFill>
                  <a:srgbClr val="000000"/>
                </a:solidFill>
                <a:latin typeface="Frutiger 55 Roman"/>
              </a:rPr>
              <a:t>absolute growth as ratio of the additional pot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35400" y="3635280"/>
                <a:ext cx="4692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D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2111400" y="2924280"/>
            <a:ext cx="83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11400" y="2924280"/>
            <a:ext cx="83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11400" y="2924280"/>
            <a:ext cx="83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081080" y="4508640"/>
                <a:ext cx="3859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060560" y="4835520"/>
                <a:ext cx="406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050840" y="5183280"/>
                <a:ext cx="9604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D</m:t>
                    </m:r>
                    <m:r>
                      <m:t xml:space="preserve">−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POT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063880" y="5181480"/>
            <a:ext cx="68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7114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ditional generation potential of RES technology i in year n until 2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63880" y="4844880"/>
            <a:ext cx="68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7114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isting electricity generation potential by RES technology i in year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63880" y="4508640"/>
            <a:ext cx="6221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7114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iveness indicator for RES technology i for the year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Frutiger 45 Light"/>
              </a:rPr>
              <a:t>Effectiveness for wind on-shore in the period 1998-2005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Frutiger 45 Light"/>
              </a:rPr>
              <a:t>    EU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66720" y="981000"/>
            <a:ext cx="715644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06:01:41Z</dcterms:created>
  <dc:creator>wi</dc:creator>
  <dc:description/>
  <cp:keywords/>
  <dc:language>en-US</dc:language>
  <cp:lastModifiedBy>Held</cp:lastModifiedBy>
  <cp:lastPrinted>2004-01-12T11:04:47Z</cp:lastPrinted>
  <dcterms:modified xsi:type="dcterms:W3CDTF">2006-11-13T06:07:44Z</dcterms:modified>
  <cp:revision>266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04253274</vt:r8>
  </property>
  <property fmtid="{D5CDD505-2E9C-101B-9397-08002B2CF9AE}" pid="3" name="_AuthorEmail">
    <vt:lpwstr>Mario.Ragwitz@isi.fraunhofer.de</vt:lpwstr>
  </property>
  <property fmtid="{D5CDD505-2E9C-101B-9397-08002B2CF9AE}" pid="4" name="_AuthorEmailDisplayName">
    <vt:lpwstr>Ragwitz, Mario</vt:lpwstr>
  </property>
  <property fmtid="{D5CDD505-2E9C-101B-9397-08002B2CF9AE}" pid="5" name="_EmailSubject">
    <vt:lpwstr>slides</vt:lpwstr>
  </property>
  <property fmtid="{D5CDD505-2E9C-101B-9397-08002B2CF9AE}" pid="6" name="_PreviousAdHocReviewCycleID">
    <vt:r8>1265222496</vt:r8>
  </property>
  <property fmtid="{D5CDD505-2E9C-101B-9397-08002B2CF9AE}" pid="7" name="_ReviewingToolsShownOnce">
    <vt:lpwstr/>
  </property>
</Properties>
</file>