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53213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781-4240-4951-BDD9-F9BA6E75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AB7-F3FC-4C0F-BD43-1483B5E9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5E8-A9F2-4E93-BFF4-AE984A64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4E4-65F7-4BCC-B0F9-837C16F7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84E-7A35-43CA-AA2C-8C199901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D35-2574-4ADA-BCA9-1574FC48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D84-4CB1-4040-9283-1D6C7AF5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7DB-8139-4F51-A120-3C29364C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C31-D670-4BD7-B092-6DA1989D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00E-175A-445E-925C-74E71F0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E85-8D4A-45EC-9F12-E521B0B2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84D-CE80-45DC-97EA-D5B974FC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DBD4-645C-45E9-8544-8A187D24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0920" y="15462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market situation for RES-E in the EU-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5280" y="5046840"/>
            <a:ext cx="7800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ga Konstantinavičiūtė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ithuanian Energy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lni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Novemb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7148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529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3327480"/>
            <a:ext cx="1347840" cy="134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04920" y="3368520"/>
            <a:ext cx="65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ssessment and optimisation of renewable support schemes in the European electricit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6480" y="857160"/>
            <a:ext cx="83674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Main support policies for RES-E in EU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3560" y="5718240"/>
            <a:ext cx="84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hoice of instrument has not been harmonized in EU, so each country has adopted its own unique set of promotion instr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164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76320" y="1327320"/>
            <a:ext cx="5391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8838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1680" y="1689120"/>
            <a:ext cx="247644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79880" y="2133720"/>
            <a:ext cx="55879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guaranteed price per unit of produced electricity to be paid to the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dely used in most of new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biggest advantage – the long-term certainty regarding income, which lowers investment risks consid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8960" y="1957320"/>
            <a:ext cx="2176560" cy="58284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680" y="200808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828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25840" y="143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83360" y="143676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8080" y="2320920"/>
            <a:ext cx="26132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ant Scheme for promotion of RES (since 2004) financed through electricity consumption tax of 0.2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ct/kW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New Enhanced Grant Scheme (since 2006) provides financial incentives in the form of grants and feed-in tariff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762520" y="2825280"/>
            <a:ext cx="681120" cy="57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2381400"/>
            <a:ext cx="198756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cheme was fixed only for 3 years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ants – 30-55% of inves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riffs with long term (15 years) con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827680" y="486468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8960" y="2392200"/>
            <a:ext cx="2552760" cy="58284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520" y="196524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" y="2495520"/>
            <a:ext cx="14652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2480" y="2292480"/>
            <a:ext cx="25700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-in tariffs (since 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w RES Act (since 2005) allows producers to choose between having a feed-in tariff or a ‘green bonus’. The ‘green bonus’ is paid on top of market price of electric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29240" y="2001960"/>
            <a:ext cx="246708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ariffs was set only a year in advance. There was no guarantee or rule about what prices will be set for the following yea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tariff structure reduced uncertainty by providing the 15 year price guarant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634000" y="265320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627520" y="522972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8960" y="2900520"/>
            <a:ext cx="2176560" cy="58248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7520" y="199404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76968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78080" y="2133720"/>
            <a:ext cx="2322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d-in tariffs system with purchase obligation (since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-E is purchased for fixed price of 5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t/kWh (since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112840"/>
            <a:ext cx="230796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ices were linked to the sales prices of two major oil-shale based power pl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ice for wind energy is guaranteed for 12 years but all current support will be terminated in 20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No differentiation amo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476680" y="2653200"/>
            <a:ext cx="68076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514840" y="464868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8960" y="3314880"/>
            <a:ext cx="2176560" cy="58248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3120" y="193680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92480" y="2278080"/>
            <a:ext cx="23083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-in tariff (since 2003) combined with purchase obli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ce 2005 a new regulation with technology specific feed-in tariffs has been adopted until green certificate system will be int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24760" y="2319480"/>
            <a:ext cx="23079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wasn’t differentiation among technolog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uration of feed-in tariff not defined by la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505480" y="2768040"/>
            <a:ext cx="681120" cy="57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487840" y="460908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8960" y="3757680"/>
            <a:ext cx="2176560" cy="58248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120" y="192096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2365200"/>
            <a:ext cx="23083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ouble tariff system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til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arly quota system (since 2003) combined with feed-in tari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24760" y="2104920"/>
            <a:ext cx="230796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tariff was double of the average electricity pr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rictive quota levels are setting annu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RES-E producers still receive feed-in tariff support depending on the terms of the contracts they signed previously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505480" y="2639520"/>
            <a:ext cx="681120" cy="57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487840" y="4422240"/>
            <a:ext cx="681120" cy="57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8960" y="4286160"/>
            <a:ext cx="2176560" cy="58284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360" y="199224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92480" y="2365200"/>
            <a:ext cx="23083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d-in tariffs (since 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ce 2005 the order on procurement and quantities of RES-E until 2010 to be supported by purchase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760" y="2104920"/>
            <a:ext cx="23079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riffs with long-term (10 years) guarant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ter this period RES-E should be supported by green certificate system. The planned implementation date was displaced from 2010 to 202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505480" y="2639520"/>
            <a:ext cx="681120" cy="57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487840" y="4422240"/>
            <a:ext cx="681120" cy="57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8960" y="4786200"/>
            <a:ext cx="2176560" cy="58284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199224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64040" y="2146320"/>
            <a:ext cx="2307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e supporting RES, including tax incentives and feed-in tariffs (since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iated feed-in tariffs (since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24760" y="2104920"/>
            <a:ext cx="230796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was no certainty on time frame and tari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ices have been set so that a rate of return on the investment is 12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05480" y="2639520"/>
            <a:ext cx="681120" cy="57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487840" y="4422240"/>
            <a:ext cx="681120" cy="57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18960" y="5257800"/>
            <a:ext cx="2176560" cy="58248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1920" y="199224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35160" y="3191040"/>
            <a:ext cx="24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d-in tariffs (since 2004) with long term guaranteed contra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24760" y="2104920"/>
            <a:ext cx="25254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twork operator and producer sign a Purchase Agreement for a period of 10 ye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ducers can choose between a fixed tariff or a premium tariff on top of the wholesale electricity pr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05480" y="366768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0240" y="1538280"/>
            <a:ext cx="6248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260208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RES-E penetration in EU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mechanisms applied in EU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 perception of support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barriers for RES-E development in EU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18960" y="5743440"/>
            <a:ext cx="2176560" cy="58284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7520" y="2035080"/>
            <a:ext cx="24764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zech Repub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Esto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Hung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atv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Lithu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Bul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Feed-in tariff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35160" y="3191040"/>
            <a:ext cx="24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ed-in tariffs (since 2003) with long-term con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0600" y="2438280"/>
            <a:ext cx="25254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iffs are fixed until the introduction of the green certificate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chase of RES-E with installed capacity up to 10 MW is obligatory for the distribution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505480" y="366768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0440" y="2035080"/>
            <a:ext cx="22734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8125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Quota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62440" y="1916280"/>
            <a:ext cx="5805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newable obligation, where minimum shares of renewables are imposed on suppliers or producers, together with penalties for non-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 used in 5 of EU-25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line with requirements for market-conformity and competitive policies that provide strong incentive for short-term technology cost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9000" y="2859120"/>
            <a:ext cx="2176200" cy="58248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6000" y="2905200"/>
            <a:ext cx="24764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Quota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35160" y="3089160"/>
            <a:ext cx="24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n power purchase obligation (since 2003) with target specified until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0600" y="2438280"/>
            <a:ext cx="25254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ase of not complying, companies may pay a “compensation fee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liged company neither buys RES-E nor pays a fee, an administrative fine may be imposed, which is at least 30% higher that f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505480" y="366768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9000" y="3730680"/>
            <a:ext cx="2176200" cy="582480"/>
          </a:xfrm>
          <a:prstGeom prst="rect">
            <a:avLst/>
          </a:prstGeom>
          <a:solidFill>
            <a:srgbClr val="008000"/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600" y="2830680"/>
            <a:ext cx="24764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6822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Quota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25840" y="1378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83360" y="13939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35160" y="3191040"/>
            <a:ext cx="24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en power quota obligation (since 2004) with target specified until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263680"/>
            <a:ext cx="25254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GCs are issued by the T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inimum and maximum price for TGCs is determined annually by Energy Regulatory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pplier who fails to fulfill his quota has to pay the maximum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505480" y="3667680"/>
            <a:ext cx="681120" cy="6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4640" y="2265480"/>
            <a:ext cx="231804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M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Cypr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ak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Arial"/>
              </a:rPr>
              <a:t>Slov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9284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Fiscal 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62440" y="1916280"/>
            <a:ext cx="5805360" cy="40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ch us tax exemption of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energy taxes, l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nterest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 used in some EU countries in combination with other support sche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ractiveness – the direct message transmitted to final energy consumers about the added value of 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coming – they do not provide a long-term certainty about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1080" y="858600"/>
            <a:ext cx="80485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evel of support (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30240" y="1876320"/>
          <a:ext cx="6908760" cy="4013280"/>
        </p:xfrm>
        <a:graphic>
          <a:graphicData uri="http://schemas.openxmlformats.org/drawingml/2006/table">
            <a:tbl>
              <a:tblPr/>
              <a:tblGrid>
                <a:gridCol w="3220920"/>
                <a:gridCol w="3687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of support for wind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€/MWh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zech Repub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sto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ung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Lithu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lovak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lov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8040" y="958680"/>
            <a:ext cx="861552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rket perception of support schemes in EU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160" y="1758960"/>
            <a:ext cx="7998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Long-term frame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ortant element of creating a stable environment for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Preference for feed-in tari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and trans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security for inv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the introduction of more market based instruments are prem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Additional investmen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timulate new technologies and demonstration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advantage is that objectiveness of involved a decision making process can't by always guarant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3920" y="987480"/>
            <a:ext cx="8048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in barriers in EU-10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2880" y="1901880"/>
            <a:ext cx="77500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number of involved 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ck of co-ordination between auth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ngth of procedure to obtain permits is long and uncer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tlenecks in the transmission gr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cedure of grid connection is not fully transparent (such problems exist in countries with strong monopol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ngth of procedure to obtain grid connection autho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1080" y="798480"/>
            <a:ext cx="8048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ain barriers in EU-10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566720"/>
            <a:ext cx="82584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ck of funding (lack of experience and low level of awareness with RES-E among bankers results into a relatively high reluctance towards RES-E invest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edictability of capital subsidies and cash flows (hard to predict what kind of support and how much support the investor can exp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upport mechanisms are still relatively unattractive and uncer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rket potential of RES hasn't been fully assessed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awareness of benefit of RES (clear example relates to environmental impact assess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position from loc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06400" y="1665360"/>
            <a:ext cx="74041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ga Konstantinavici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thuanian Energy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ga@mail.lei.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1073160"/>
            <a:ext cx="771372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95440" y="2060640"/>
            <a:ext cx="78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2206800"/>
            <a:ext cx="7867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te 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“Energy for the future” 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s for renewable energy  to contribute 12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total EU energy consumption by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rectiv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001/77/E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on the promotion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ity from RES in the internal electric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rk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t the target that 22% (21% at EU-25)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newable electricity in comparison to the overa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ity consumption should be reached b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0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3880" y="1262160"/>
            <a:ext cx="771372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Promotion of RES-E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5440" y="2060640"/>
            <a:ext cx="78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8040" y="2249640"/>
            <a:ext cx="77817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fied nati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consumption of RES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ification of nati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ative proced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author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uarante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transmission and distribution of RES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730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National </a:t>
            </a:r>
            <a:r>
              <a:rPr b="1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indicative targets of EU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14240" y="1851120"/>
          <a:ext cx="7772400" cy="43815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-E 1997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-E 2010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p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ec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hu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ak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EU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83720"/>
            <a:ext cx="7772400" cy="7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lectricity generation from RES in EU-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73160" y="1712880"/>
            <a:ext cx="7007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9520" y="812880"/>
            <a:ext cx="81644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lectricity generation from ‘new’ RES</a:t>
            </a:r>
            <a:r>
              <a:rPr b="1" lang="lt-LT" sz="2800" spc="-1" strike="noStrike">
                <a:solidFill>
                  <a:srgbClr val="3333cc"/>
                </a:solidFill>
                <a:latin typeface="Arial"/>
                <a:ea typeface="Arial"/>
              </a:rPr>
              <a:t> in EU-10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76240" y="1830240"/>
            <a:ext cx="7392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8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reakdown of electricity generation from RES (excl. large hydro) for 2004 by coun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2960" y="2268360"/>
            <a:ext cx="721188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840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ctual penetration of RES-E in 1997 and 2004 versus 2010 targ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6120" y="1959120"/>
            <a:ext cx="1640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8000" y="2031840"/>
            <a:ext cx="14652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77760" y="1982880"/>
            <a:ext cx="71168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9:41:41Z</dcterms:created>
  <dc:creator>Vaclovas</dc:creator>
  <dc:description/>
  <dc:language>en-US</dc:language>
  <cp:lastModifiedBy>Inga</cp:lastModifiedBy>
  <dcterms:modified xsi:type="dcterms:W3CDTF">2003-11-12T22:48:50Z</dcterms:modified>
  <cp:revision>208</cp:revision>
  <dc:subject/>
  <dc:title>No Slide Title</dc:title>
</cp:coreProperties>
</file>